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Lst>
  <p:sldSz cx="12193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C3D60-DC14-44D3-AE08-0F4D922845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1ED01D86-227B-4006-8354-E4D65174CE5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B2C5CF8-CB2F-4EB2-8574-36F58532863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73CFEB2-930F-42FC-9736-9ACC53AF399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C4ED434-249C-4CB8-A4E4-376D79E2B71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E555776-AFB6-4FB6-9AB9-4A63D841090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FB1E6E9-64AC-4A1B-B20B-65EC22B473A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80ABC48-5016-49FF-86F5-410CED00D8C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E295631-57AC-4538-9520-9BAFC435EA5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E3BEDC7-20BD-4E8E-9A12-3A187BB2E83B}"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B7319A5-9359-4585-BFFF-D29C39D616F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E805398-D1A2-4A18-B675-3FB04B35AD4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A69C8EDA-ED3A-42E1-96AE-8A25191D23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8971F7E-8E3B-4484-B391-3B5E72D108F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2BB8252-DCB5-4D8D-9796-4026565B009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89EC31E-1103-4E22-A20E-C9B5013F3CB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ED719E3-36B3-4CF6-88F7-7D0D70838A7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B1C6178-2D20-4EEC-86DC-DCBFED826EE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4C42907-F026-44BF-A33C-25834E50C89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C0D12F7-FA15-4080-905E-8F5F603CBC1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AC88DCD-2CC7-4E2A-AE36-7B480B1757D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29F0FAF-9D87-4B11-A820-307F021BFA4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2AFE9B7-34AF-45AE-8740-EF886F335EC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79A72F3B-5EAB-4CEC-A96F-F00DE827311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149711A-1299-4452-A5BF-5C90DC9A35C5}"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E981B684-9730-4337-8AA8-A3EEA6BB577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F146F27-D414-41F3-8580-BED4648F263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93B0818-79EB-4C80-B9E1-52B4FD891A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97B2A38-ECD9-45AD-B959-61A75A01348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1F58F1E-E12E-4259-A9C8-979D980EC6B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66A18DB-ECCC-4302-BE65-F0DDA7F59DA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6FC9B77-6854-4861-832F-01CF86B6E8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B46CE20-4C31-489E-B8A5-1870A2A2DC9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9E508B5-C86F-4676-8E2F-8BD4107EBEC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43B3BF7-412F-4968-BF26-D81AECED18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F6F42FF-2B33-405D-9E58-34F4C06D358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0946A30-917B-4B56-8D75-88A4C8F6074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8BD5D5E-11D7-4986-8DFB-136B9B70A8C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8641188-47A7-4093-8765-BA0201E6F6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6"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257647C9-6084-40A1-9613-49221B7DA6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F114873-B897-42F5-A76D-74030192CB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F33A55F-3270-463F-A10F-8C263C839D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210F120-51C5-4A63-A71F-50721E2B57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64597C4-F53C-4DF9-A59A-35949481B4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674EF73-A7E0-4DDF-81F3-2EFB433B84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4E735C7-1DAB-409D-9BCB-D54241AA86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0CE3BA4-83E0-4D13-8C99-1F47A0E3C5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3E5A16B-EFC2-487E-86B1-6BC40F7919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9EA6AAF-2212-4F6B-89B0-C21D66736E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AB526F1-5842-4EAE-93DA-8DA2927C69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7"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44C5ECC-DF62-42E5-B4AF-56B16449EE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E7975D7-3A60-424F-B64D-FB4A049475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07D811C-ABF3-49D8-9F57-117FDEC380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C0D98EF-3006-4450-BCB9-15C76F0C4C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A086592-2A77-48B4-AF52-44CEA5449E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51B76B0-89A6-4E7A-9836-D521B08EF9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CB8F102-803A-4E5A-91D9-BD097EBA85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DF07B97-87BF-4BD5-AF92-45CA50BE6E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6699918-A4F1-4B8A-9E84-3F420D17E5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2B1B67A-EAAF-407B-8254-F433C31DD5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6"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FE6BABA4-D2C9-416D-A09A-0FC4991C1E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C4E660F-3CE0-4D90-AF92-EC7516C5E9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04B9C39-FC9A-484F-AA76-778CAA46F0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2E18104-078C-4B6A-B58C-FB5F8A5E18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FFAD834-BA2E-402A-80FF-4CE25BCE2A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1E76147-1018-431E-9441-F68B697CFC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C1BE49C-C2E5-4F45-82C1-CDBED0E27C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FF6A962-B1E7-4E95-8935-FC664FF70B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99F70FF-2DE2-449A-BDC1-F19BDB92D9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C39A603-587E-4B61-A36E-CDDA6C5C6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FF00A09-C681-45D3-ABEE-A59B0C8AED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C34CB4A-6A8F-41B4-9F31-C27C0F01AA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8275CC3-7873-4BF5-BE6E-AD826FF4A6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D9F4B88-D493-49DF-8955-E6461F6351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F35969F4-A750-4DF4-9B43-CB5FC5EEAE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2FBCB5D-756C-4F74-97C3-D374C55017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6F0D5D3-1983-4B41-89E0-8E6F526B1D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B3BE45A-7E29-42BD-A742-D45F6C86EA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46B9A911-FE83-4CF0-A1D7-61DA401E15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923315-D1DC-4411-954D-5399B36E4A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AC1CECC-3A4B-4AA4-8BA9-794EB6B569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4C5CBE1-033B-4876-BC2D-8EA239ABC5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AAC61652-2460-4031-A571-5572863C06F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DD7692A-83CC-4BBF-84C1-484A29C6B47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456902F-724E-47B8-A41D-3D9BAE1953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D112708E-E5CC-40DB-B793-94AC3EC29E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45891BC-1AD0-40DB-92DB-F19D93B1BF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4291BAA0-E0CD-4C70-BA99-DC554921B4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A65DF13-1834-40AF-BF07-148D36D862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8787E1D9-F71B-4C4D-BF90-2A9F3ADE5B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17FA81E-29FB-40E4-9130-B274155DDB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799F65BB-9E55-41B2-BD44-7BD7EB04CC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7EF296B-B6CC-4A4B-9C24-4F55F6C160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19ACAFA-A17F-4710-AE81-970A05321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98E8B1C-CEF5-4533-94E2-79DC43176D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16D9E3E-ED9E-4736-884B-E34CF9F5A6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C9433A1-518C-4041-8B28-FE7D775938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AAA28F50-6494-4C27-BA5D-B6F3C9564FE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C91C760-D198-4E52-B858-7A89DB31C8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0B95341-018B-4B18-B276-A4D6AA9FC7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FB33E286-D001-40F2-9657-9C9A69BCCC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19BC1404-6BE4-47D8-9BA5-612DDA13AE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7806BF3-F7D6-446C-91E4-D371685189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4EBF1FC-322B-4E60-9EF4-00F3AE1C33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51842B48-312F-43A3-BC26-BAF3D1BFC5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2CA8972-05A5-4E1E-B47D-F276A7D127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C0BEEF2-49B8-4054-BD71-B01DB5FB06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421C5207-C557-49B5-A159-56910815D2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A32F95C-12FB-4AEE-BF55-5EE87414955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89BB21A8-81B5-47E9-AFB1-653F240F37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1F2EB82F-E085-48E7-84C6-FDBDE255BC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5E55195-1CAF-473E-BAC3-C940CA97F1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D185313-5122-4495-B308-080715FB36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5E1C686-79AD-442D-A8FB-EFAD8EC8A1F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018D04AE-ED01-471F-ABAC-A976EE6BAC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3085CB4-DD2C-4C24-86FC-920129698D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38AEBB8-5CDF-4E55-BECC-8A7D6DA6D1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B9F10E8E-B43D-48B6-B454-DD6DE113E1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6575FE6A-2ECA-458F-B577-CEB6953F47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2CE74547-84F0-489F-A9DA-3E5135C5733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62EA7D52-C747-47FC-BD6C-A0B570E054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0FDDFF28-B05A-4A9A-888A-8F9216A30F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D2E8D1DA-889C-4CE5-A409-549AACA302CD}"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75F12A8-7A24-4B95-9E50-2BFC90398179}"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B1B5713-754C-45AE-BCEE-8A1BCEE458E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5CFB283-CFD0-45AF-B724-B166EE9B264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55C1C1E9-1F4E-44C7-8C2C-BADBFF76133C}"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B885756-24B7-46D8-86FC-F8539CAF2A3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1216DC3C-BB0B-4C62-B6BF-077F8F8E5D1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37DD50A1-7974-4D28-9942-5E10F47FD61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9FF6622-A7C1-4AD3-BC93-6438031A57AA}"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A56B62CA-2123-4986-8BCA-301F46332AC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810C8B38-2209-4132-AA46-8634E7ADCB75}"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9371ADE2-4C90-4002-8BC4-454CE91313E8}"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F150EBC0-8B82-4773-9108-18241F1F63D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3EF75F7-13C7-4DF7-8BFC-341E9B0C631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286BDD6-31A7-4EDF-A009-3A988B44830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3128054-3E45-4F52-AAF0-D06F20693A3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9A28872-DF7A-44A1-842F-73709058F4F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63776C6-A133-4AF2-805D-3E5190FBDFA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F30B9F6E-4B2A-40AA-9FFA-9E821BBDAA1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6161E96-AEBD-4743-9EE8-89F1307AC13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00045966-8AC8-40F7-87B9-7B3ECB27B9B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C0BA8547-7500-463B-9A1F-C16A8AAE75A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BB3973D5-4408-4B26-BFB0-7A4DA62BEEA0}"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EA69040F-8126-479B-A289-4111FDB2335B}"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D13AA9C-9964-49AB-AF79-5822212D4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7A2A09-ACA7-4C90-99DF-0170DA9B0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E26B5DF-7EB8-4856-BCC9-A616A22A9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A3C031-1E66-446E-8B62-21D6BC9A2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5CB9CB-4C46-4A4C-97F5-2191B2B351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A5E8E29A-1092-4263-BF58-1EB5340B143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C8E71AA-351F-4011-AB87-F8F78E8F6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462769-1C72-41B9-A58C-2D0D029518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1944BA-3AC0-49F6-9C5B-0D2BEB5AB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F6B5E83-B110-4D12-951A-C79DB5AA5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9870C3-B3B8-420A-B1D3-527AB278DA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A04C31-35BA-4D8E-A50A-AADF7AED89B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4F4180-24D5-40A5-8467-AD5CC22B9F4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43188F3-F965-4C26-BC1F-B887EDE1D45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F17A230-B510-4531-AACA-E56507C64EA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FF01D0A-6F51-43BD-A0D8-0B879EEB865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BDB50366-1BBB-4AF7-BAE2-49A202F34D4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D2D8C8C-E2F0-4C38-895D-4A524660E0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B319C6E-8DFD-4C27-80E6-68554AEBC0D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0C1624A-02B7-499F-82BA-44E2977C575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1DB7315-B6F8-4098-B19F-E9821585991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5656CF-0190-4FBE-A824-5F497BA860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7677AF4-5E19-47EC-A985-63FEC18B6B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123876-AB6C-4BCC-BAB4-202CF099FC2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3DAF658-AE95-483C-9582-6EF910FEB2E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7B7CEAF7-33D8-43F4-8331-B2FAE9DD397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874EB17-2540-4951-9DF9-C618AA6D7C4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3015E84A-B8B2-407C-B1A5-01474C37D19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01475C-08FD-4FCC-A9FB-49A81BFBBDA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972FE0A-A392-4C38-B0FE-5CF176229F4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57BDAFB-49C1-401A-9F6B-66D80F819DC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B11197C-0C54-47BF-85B3-707E0C8DCCC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F91D016-8D28-4BCD-AE4A-FC21676C514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199CAF2-A5CF-4DD8-8395-F84850185F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C2CCA3D-5985-43EF-A090-4BB64E7DE6F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52745A6-5629-4588-89D0-B51F5508505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129DA5C-3F62-4334-A629-6DA82085D7C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FF8A83D-92FD-4986-8986-5A98ED01623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16C84FC5-E37D-452E-A177-72E2C7188C2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289F21D-2031-40A5-B19A-A3D61633307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4615952-F6BE-4C77-B9D2-21886C4D8C3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CE060DD9-F958-4E76-A448-F62B316CDD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87ACE72-CD81-41D3-BA1D-B50089889C0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04B32C0-658E-4B69-B734-AB4AD70507D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55C38FC-1638-4349-A2DD-CB31377B30E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F77CE6E-2B54-40A2-96BE-ACA7A83775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8A436AA-EED1-429C-841E-197A8A86BD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FEA0A65-2325-4BB0-9556-6AC41B6A2E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8B58F35-0A2E-4C7E-958C-C5B8F4D2C7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48D2DFE5-7166-4CFE-8651-11099329E2C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01160D6-059E-49BA-A11C-2DB17A279F5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F2C2A8A-B50E-4C0D-B879-0907F892997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F2B7AF4-AE70-4D4A-996E-AB743FEEA5A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D4FA383E-A4B4-4ED5-94B8-308A6B7C180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CDD6A6E-EC22-44B7-9130-F5A016B8DC7C}"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A2A3126-61BB-440F-9ED7-CABCC7BB12B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BC7671-0464-4AFC-ACD0-882AA2F5483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95386DF-9BA8-4D47-BF37-B4486CFBC5E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1617C8-A9D3-489F-A56A-29B78310DC3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DEC9493-FE5E-4C94-B362-02DCFE4E5B1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A2DFBAEC-3AFD-447D-A92E-CE0402CB91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C762B1-22BD-432F-B53A-B5032023809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F702334-5729-4023-960A-61E9EE3C2B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57D8B49-A1BF-4A40-9688-1332166FF9A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F0AC585-1F81-441E-9509-4F18FC2D8F0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DDEEA11-9C47-47AA-AE91-698F1657FE0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1FCE03D-40F9-40F3-83C8-50B15EDA790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DA42458-DC14-47DF-B3DC-009D57FF207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BB57BC7-13CF-4964-8991-819640D41AC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DBE5661-6CD9-4107-A145-2504E61B544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7A777E3-7DF5-4D6E-A19D-FDB11A7C683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333CCFDF-E6C4-4A56-81CE-81475DF4DBA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9D5D784-7026-4975-9DC7-FA921CE7392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E34CD05-657E-4811-AFCD-26B43130201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C452273-B0DE-47D4-9F5D-131FF1AF06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218725-71B5-4B67-9D9E-6DB4241CAC3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BBFCE42-3AE3-4675-B2F4-EAEE6D3F7E7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CEBB97B-608E-4931-BF6F-FA038C2A3DA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F13D1AD-3334-4295-ADD1-738FD9A4AD1B}"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8031338-A605-4751-9D84-57DEDCF8191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0E086BE-57E4-4FE1-AAAD-388DF8A0FDC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95EBD3E-D957-49FF-B063-0E7D8C06F806}"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93B91-3CBD-432F-ADD5-9E26DA46B4CE}"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1" name="Immagine 7" descr=""/>
          <p:cNvPicPr/>
          <p:nvPr/>
        </p:nvPicPr>
        <p:blipFill>
          <a:blip r:embed="rId2"/>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Immagine 9" descr=""/>
          <p:cNvPicPr/>
          <p:nvPr/>
        </p:nvPicPr>
        <p:blipFill>
          <a:blip r:embed="rId2"/>
          <a:stretch/>
        </p:blipFill>
        <p:spPr>
          <a:xfrm>
            <a:off x="0" y="5754600"/>
            <a:ext cx="12192120" cy="1103400"/>
          </a:xfrm>
          <a:prstGeom prst="rect">
            <a:avLst/>
          </a:prstGeom>
          <a:ln w="0">
            <a:noFill/>
          </a:ln>
        </p:spPr>
      </p:pic>
      <p:sp>
        <p:nvSpPr>
          <p:cNvPr id="361"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EF93-4AE6-4250-A920-26FBD0700780}"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362"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363"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364" name="PlaceHolder 2"/>
          <p:cNvSpPr>
            <a:spLocks noGrp="1"/>
          </p:cNvSpPr>
          <p:nvPr>
            <p:ph type="dt" idx="23"/>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5" name="PlaceHolder 3"/>
          <p:cNvSpPr>
            <a:spLocks noGrp="1"/>
          </p:cNvSpPr>
          <p:nvPr>
            <p:ph type="ftr" idx="2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4"/>
          <p:cNvSpPr>
            <a:spLocks noGrp="1"/>
          </p:cNvSpPr>
          <p:nvPr>
            <p:ph type="sldNum" idx="25"/>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CD28-F568-4777-82EF-040D4EBCA018}"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Immagine 9" descr=""/>
          <p:cNvPicPr/>
          <p:nvPr/>
        </p:nvPicPr>
        <p:blipFill>
          <a:blip r:embed="rId2"/>
          <a:stretch/>
        </p:blipFill>
        <p:spPr>
          <a:xfrm>
            <a:off x="0" y="5754600"/>
            <a:ext cx="12192120" cy="1103400"/>
          </a:xfrm>
          <a:prstGeom prst="rect">
            <a:avLst/>
          </a:prstGeom>
          <a:ln w="0">
            <a:noFill/>
          </a:ln>
        </p:spPr>
      </p:pic>
      <p:sp>
        <p:nvSpPr>
          <p:cNvPr id="404"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70439-1D4B-4C28-BFCD-CAD1552EB81E}"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05"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406"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07" name="PlaceHolder 2"/>
          <p:cNvSpPr>
            <a:spLocks noGrp="1"/>
          </p:cNvSpPr>
          <p:nvPr>
            <p:ph type="dt" idx="26"/>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08" name="PlaceHolder 3"/>
          <p:cNvSpPr>
            <a:spLocks noGrp="1"/>
          </p:cNvSpPr>
          <p:nvPr>
            <p:ph type="ftr" idx="2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4"/>
          <p:cNvSpPr>
            <a:spLocks noGrp="1"/>
          </p:cNvSpPr>
          <p:nvPr>
            <p:ph type="sldNum" idx="28"/>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0CCB-0A77-4346-A236-9A43C67E2649}"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Immagine 9" descr=""/>
          <p:cNvPicPr/>
          <p:nvPr/>
        </p:nvPicPr>
        <p:blipFill>
          <a:blip r:embed="rId2"/>
          <a:stretch/>
        </p:blipFill>
        <p:spPr>
          <a:xfrm>
            <a:off x="0" y="5754600"/>
            <a:ext cx="12192120" cy="1103400"/>
          </a:xfrm>
          <a:prstGeom prst="rect">
            <a:avLst/>
          </a:prstGeom>
          <a:ln w="0">
            <a:noFill/>
          </a:ln>
        </p:spPr>
      </p:pic>
      <p:sp>
        <p:nvSpPr>
          <p:cNvPr id="447"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D380-97CF-436E-815D-86321214CF40}"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48"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449"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50" name="PlaceHolder 2"/>
          <p:cNvSpPr>
            <a:spLocks noGrp="1"/>
          </p:cNvSpPr>
          <p:nvPr>
            <p:ph type="dt" idx="29"/>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51" name="PlaceHolder 3"/>
          <p:cNvSpPr>
            <a:spLocks noGrp="1"/>
          </p:cNvSpPr>
          <p:nvPr>
            <p:ph type="ftr" idx="3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4"/>
          <p:cNvSpPr>
            <a:spLocks noGrp="1"/>
          </p:cNvSpPr>
          <p:nvPr>
            <p:ph type="sldNum" idx="31"/>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625E-9128-4AB6-BC57-D68EE4D4F44C}"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Immagine 9" descr=""/>
          <p:cNvPicPr/>
          <p:nvPr/>
        </p:nvPicPr>
        <p:blipFill>
          <a:blip r:embed="rId2"/>
          <a:stretch/>
        </p:blipFill>
        <p:spPr>
          <a:xfrm>
            <a:off x="0" y="5754600"/>
            <a:ext cx="12192120" cy="1103400"/>
          </a:xfrm>
          <a:prstGeom prst="rect">
            <a:avLst/>
          </a:prstGeom>
          <a:ln w="0">
            <a:noFill/>
          </a:ln>
        </p:spPr>
      </p:pic>
      <p:sp>
        <p:nvSpPr>
          <p:cNvPr id="490"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9E78-BCCD-4FA0-9FC4-BC4E3DC97E79}"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91"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492"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93" name="PlaceHolder 2"/>
          <p:cNvSpPr>
            <a:spLocks noGrp="1"/>
          </p:cNvSpPr>
          <p:nvPr>
            <p:ph type="dt" idx="32"/>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94" name="PlaceHolder 3"/>
          <p:cNvSpPr>
            <a:spLocks noGrp="1"/>
          </p:cNvSpPr>
          <p:nvPr>
            <p:ph type="ftr" idx="3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sldNum" idx="34"/>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A3AB-21EE-4CB4-AA37-34FA79AEE655}"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Immagine 9" descr=""/>
          <p:cNvPicPr/>
          <p:nvPr/>
        </p:nvPicPr>
        <p:blipFill>
          <a:blip r:embed="rId2"/>
          <a:stretch/>
        </p:blipFill>
        <p:spPr>
          <a:xfrm>
            <a:off x="0" y="5754600"/>
            <a:ext cx="12192120" cy="1103400"/>
          </a:xfrm>
          <a:prstGeom prst="rect">
            <a:avLst/>
          </a:prstGeom>
          <a:ln w="0">
            <a:noFill/>
          </a:ln>
        </p:spPr>
      </p:pic>
      <p:sp>
        <p:nvSpPr>
          <p:cNvPr id="533"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311D-1724-4FC8-816E-FDD20E90403F}"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534"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535"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536" name="PlaceHolder 2"/>
          <p:cNvSpPr>
            <a:spLocks noGrp="1"/>
          </p:cNvSpPr>
          <p:nvPr>
            <p:ph type="dt" idx="35"/>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37" name="PlaceHolder 3"/>
          <p:cNvSpPr>
            <a:spLocks noGrp="1"/>
          </p:cNvSpPr>
          <p:nvPr>
            <p:ph type="ftr" idx="3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4"/>
          <p:cNvSpPr>
            <a:spLocks noGrp="1"/>
          </p:cNvSpPr>
          <p:nvPr>
            <p:ph type="sldNum" idx="37"/>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468C-C0D1-4987-B72B-C8FB130BE6B5}"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Immagine 9" descr=""/>
          <p:cNvPicPr/>
          <p:nvPr/>
        </p:nvPicPr>
        <p:blipFill>
          <a:blip r:embed="rId2"/>
          <a:stretch/>
        </p:blipFill>
        <p:spPr>
          <a:xfrm>
            <a:off x="0" y="5754600"/>
            <a:ext cx="12192120" cy="1103400"/>
          </a:xfrm>
          <a:prstGeom prst="rect">
            <a:avLst/>
          </a:prstGeom>
          <a:ln w="0">
            <a:noFill/>
          </a:ln>
        </p:spPr>
      </p:pic>
      <p:sp>
        <p:nvSpPr>
          <p:cNvPr id="576"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95D3-11F2-42EC-B902-7D60C5AFE0AA}"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577"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578"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579" name="PlaceHolder 2"/>
          <p:cNvSpPr>
            <a:spLocks noGrp="1"/>
          </p:cNvSpPr>
          <p:nvPr>
            <p:ph type="dt" idx="38"/>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580" name="PlaceHolder 3"/>
          <p:cNvSpPr>
            <a:spLocks noGrp="1"/>
          </p:cNvSpPr>
          <p:nvPr>
            <p:ph type="ftr" idx="3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sldNum" idx="40"/>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9163-6ED2-4503-A656-4EBB4ADAAD5A}"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Immagine 9" descr=""/>
          <p:cNvPicPr/>
          <p:nvPr/>
        </p:nvPicPr>
        <p:blipFill>
          <a:blip r:embed="rId2"/>
          <a:stretch/>
        </p:blipFill>
        <p:spPr>
          <a:xfrm>
            <a:off x="0" y="5754600"/>
            <a:ext cx="12192120" cy="1103400"/>
          </a:xfrm>
          <a:prstGeom prst="rect">
            <a:avLst/>
          </a:prstGeom>
          <a:ln w="0">
            <a:noFill/>
          </a:ln>
        </p:spPr>
      </p:pic>
      <p:sp>
        <p:nvSpPr>
          <p:cNvPr id="619"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A34B-71F2-426F-92AF-3EC20A59CBB3}"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620"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621"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622" name="PlaceHolder 2"/>
          <p:cNvSpPr>
            <a:spLocks noGrp="1"/>
          </p:cNvSpPr>
          <p:nvPr>
            <p:ph type="dt" idx="41"/>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23" name="PlaceHolder 3"/>
          <p:cNvSpPr>
            <a:spLocks noGrp="1"/>
          </p:cNvSpPr>
          <p:nvPr>
            <p:ph type="ftr" idx="4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4"/>
          <p:cNvSpPr>
            <a:spLocks noGrp="1"/>
          </p:cNvSpPr>
          <p:nvPr>
            <p:ph type="sldNum" idx="43"/>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19F9-42AC-4BE0-BB01-392FA0DCD60D}"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1" name="Immagine 9" descr=""/>
          <p:cNvPicPr/>
          <p:nvPr/>
        </p:nvPicPr>
        <p:blipFill>
          <a:blip r:embed="rId2"/>
          <a:stretch/>
        </p:blipFill>
        <p:spPr>
          <a:xfrm>
            <a:off x="0" y="5754600"/>
            <a:ext cx="12192120" cy="1103400"/>
          </a:xfrm>
          <a:prstGeom prst="rect">
            <a:avLst/>
          </a:prstGeom>
          <a:ln w="0">
            <a:noFill/>
          </a:ln>
        </p:spPr>
      </p:pic>
      <p:sp>
        <p:nvSpPr>
          <p:cNvPr id="662"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4F56-FE1A-48A1-94EB-CC9FBF8EC578}"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663"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664"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665" name="PlaceHolder 2"/>
          <p:cNvSpPr>
            <a:spLocks noGrp="1"/>
          </p:cNvSpPr>
          <p:nvPr>
            <p:ph type="dt" idx="44"/>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66" name="PlaceHolder 3"/>
          <p:cNvSpPr>
            <a:spLocks noGrp="1"/>
          </p:cNvSpPr>
          <p:nvPr>
            <p:ph type="ftr" idx="4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PlaceHolder 4"/>
          <p:cNvSpPr>
            <a:spLocks noGrp="1"/>
          </p:cNvSpPr>
          <p:nvPr>
            <p:ph type="sldNum" idx="46"/>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D10B-7E1A-45AA-BC83-E4823FAB0FD2}"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Immagine 9" descr=""/>
          <p:cNvPicPr/>
          <p:nvPr/>
        </p:nvPicPr>
        <p:blipFill>
          <a:blip r:embed="rId2"/>
          <a:stretch/>
        </p:blipFill>
        <p:spPr>
          <a:xfrm>
            <a:off x="0" y="5754600"/>
            <a:ext cx="12192120" cy="1103400"/>
          </a:xfrm>
          <a:prstGeom prst="rect">
            <a:avLst/>
          </a:prstGeom>
          <a:ln w="0">
            <a:noFill/>
          </a:ln>
        </p:spPr>
      </p:pic>
      <p:sp>
        <p:nvSpPr>
          <p:cNvPr id="705"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A65F-0A94-4AFC-88BF-A4FA6B9835B5}"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706"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707"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708" name="PlaceHolder 2"/>
          <p:cNvSpPr>
            <a:spLocks noGrp="1"/>
          </p:cNvSpPr>
          <p:nvPr>
            <p:ph type="dt" idx="47"/>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09" name="PlaceHolder 3"/>
          <p:cNvSpPr>
            <a:spLocks noGrp="1"/>
          </p:cNvSpPr>
          <p:nvPr>
            <p:ph type="ftr" idx="4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PlaceHolder 4"/>
          <p:cNvSpPr>
            <a:spLocks noGrp="1"/>
          </p:cNvSpPr>
          <p:nvPr>
            <p:ph type="sldNum" idx="49"/>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19E6-6ED3-41E4-94CF-DE66D0941A44}"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7" name="Immagine 9" descr=""/>
          <p:cNvPicPr/>
          <p:nvPr/>
        </p:nvPicPr>
        <p:blipFill>
          <a:blip r:embed="rId2"/>
          <a:stretch/>
        </p:blipFill>
        <p:spPr>
          <a:xfrm>
            <a:off x="0" y="5754600"/>
            <a:ext cx="12192120" cy="1103400"/>
          </a:xfrm>
          <a:prstGeom prst="rect">
            <a:avLst/>
          </a:prstGeom>
          <a:ln w="0">
            <a:noFill/>
          </a:ln>
        </p:spPr>
      </p:pic>
      <p:sp>
        <p:nvSpPr>
          <p:cNvPr id="748"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73D4-5098-439B-A713-A1BE7AC9B5DC}"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749"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750"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751" name="PlaceHolder 2"/>
          <p:cNvSpPr>
            <a:spLocks noGrp="1"/>
          </p:cNvSpPr>
          <p:nvPr>
            <p:ph type="dt" idx="50"/>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52" name="PlaceHolder 3"/>
          <p:cNvSpPr>
            <a:spLocks noGrp="1"/>
          </p:cNvSpPr>
          <p:nvPr>
            <p:ph type="ftr" idx="5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PlaceHolder 4"/>
          <p:cNvSpPr>
            <a:spLocks noGrp="1"/>
          </p:cNvSpPr>
          <p:nvPr>
            <p:ph type="sldNum" idx="52"/>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5715-2F89-4AB8-B243-8806EEF5E148}"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Immagine 9" descr=""/>
          <p:cNvPicPr/>
          <p:nvPr/>
        </p:nvPicPr>
        <p:blipFill>
          <a:blip r:embed="rId2"/>
          <a:stretch/>
        </p:blipFill>
        <p:spPr>
          <a:xfrm>
            <a:off x="0" y="5754600"/>
            <a:ext cx="12192120" cy="1103400"/>
          </a:xfrm>
          <a:prstGeom prst="rect">
            <a:avLst/>
          </a:prstGeom>
          <a:ln w="0">
            <a:noFill/>
          </a:ln>
        </p:spPr>
      </p:pic>
      <p:sp>
        <p:nvSpPr>
          <p:cNvPr id="39"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40"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BFAD-DD6B-41A8-8DB3-95DC88DD11E3}"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41" name="Immagine 2" descr="loghi_REV6-01.jpg"/>
          <p:cNvPicPr/>
          <p:nvPr/>
        </p:nvPicPr>
        <p:blipFill>
          <a:blip r:embed="rId3"/>
          <a:srcRect l="0" t="25985" r="0" b="7036"/>
          <a:stretch/>
        </p:blipFill>
        <p:spPr>
          <a:xfrm>
            <a:off x="1319040" y="6086520"/>
            <a:ext cx="7479000" cy="771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0" name="Immagine 9" descr=""/>
          <p:cNvPicPr/>
          <p:nvPr/>
        </p:nvPicPr>
        <p:blipFill>
          <a:blip r:embed="rId2"/>
          <a:stretch/>
        </p:blipFill>
        <p:spPr>
          <a:xfrm>
            <a:off x="0" y="5754600"/>
            <a:ext cx="12192120" cy="1103400"/>
          </a:xfrm>
          <a:prstGeom prst="rect">
            <a:avLst/>
          </a:prstGeom>
          <a:ln w="0">
            <a:noFill/>
          </a:ln>
        </p:spPr>
      </p:pic>
      <p:sp>
        <p:nvSpPr>
          <p:cNvPr id="791" name="Segnaposto numero diapositiva 5"/>
          <p:cNvSpPr/>
          <p:nvPr/>
        </p:nvSpPr>
        <p:spPr>
          <a:xfrm>
            <a:off x="9291600" y="58993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71196-945C-4B86-AB5A-E62304BDFC16}" type="slidenum">
              <a:rPr b="1" lang="it-IT" sz="1200" spc="-1" strike="noStrike">
                <a:solidFill>
                  <a:srgbClr val="448ad7"/>
                </a:solidFill>
                <a:latin typeface="Corbel"/>
              </a:rPr>
              <a:t>&lt;number&gt;</a:t>
            </a:fld>
            <a:endParaRPr b="0" lang="en-US" sz="1200" spc="-1" strike="noStrike">
              <a:solidFill>
                <a:srgbClr val="000000"/>
              </a:solidFill>
              <a:latin typeface="Arial"/>
            </a:endParaRPr>
          </a:p>
        </p:txBody>
      </p:sp>
      <p:pic>
        <p:nvPicPr>
          <p:cNvPr id="792" name="Immagine 2" descr="loghi_REV6-01.jpg"/>
          <p:cNvPicPr/>
          <p:nvPr/>
        </p:nvPicPr>
        <p:blipFill>
          <a:blip r:embed="rId3"/>
          <a:srcRect l="0" t="25985" r="0" b="7036"/>
          <a:stretch/>
        </p:blipFill>
        <p:spPr>
          <a:xfrm>
            <a:off x="1319040" y="6086520"/>
            <a:ext cx="7479000" cy="771480"/>
          </a:xfrm>
          <a:prstGeom prst="rect">
            <a:avLst/>
          </a:prstGeom>
          <a:ln w="0">
            <a:noFill/>
          </a:ln>
        </p:spPr>
      </p:pic>
      <p:sp>
        <p:nvSpPr>
          <p:cNvPr id="793" name="PlaceHolder 1"/>
          <p:cNvSpPr>
            <a:spLocks noGrp="1"/>
          </p:cNvSpPr>
          <p:nvPr>
            <p:ph type="title"/>
          </p:nvPr>
        </p:nvSpPr>
        <p:spPr>
          <a:xfrm>
            <a:off x="215640" y="227160"/>
            <a:ext cx="1086156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Arial Unicode MS"/>
              </a:rPr>
              <a:t>Click to edit the title text format</a:t>
            </a:r>
            <a:endParaRPr b="0" lang="en-US" sz="4400" spc="-1" strike="noStrike">
              <a:solidFill>
                <a:srgbClr val="0070c0"/>
              </a:solidFill>
              <a:latin typeface="Arial Unicode MS"/>
            </a:endParaRPr>
          </a:p>
        </p:txBody>
      </p:sp>
      <p:sp>
        <p:nvSpPr>
          <p:cNvPr id="794" name="PlaceHolder 2"/>
          <p:cNvSpPr>
            <a:spLocks noGrp="1"/>
          </p:cNvSpPr>
          <p:nvPr>
            <p:ph type="dt" idx="53"/>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795" name="PlaceHolder 3"/>
          <p:cNvSpPr>
            <a:spLocks noGrp="1"/>
          </p:cNvSpPr>
          <p:nvPr>
            <p:ph type="ftr" idx="5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sldNum" idx="55"/>
          </p:nvPr>
        </p:nvSpPr>
        <p:spPr>
          <a:xfrm>
            <a:off x="86104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A153-B789-498E-B744-1752BB0EB22C}" type="slidenum">
              <a:rPr b="0" lang="it-IT"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Immagine 7" descr=""/>
          <p:cNvPicPr/>
          <p:nvPr/>
        </p:nvPicPr>
        <p:blipFill>
          <a:blip r:embed="rId2"/>
          <a:stretch/>
        </p:blipFill>
        <p:spPr>
          <a:xfrm>
            <a:off x="0" y="0"/>
            <a:ext cx="12192120" cy="6858000"/>
          </a:xfrm>
          <a:prstGeom prst="rect">
            <a:avLst/>
          </a:prstGeom>
          <a:ln w="0">
            <a:noFill/>
          </a:ln>
        </p:spPr>
      </p:pic>
      <p:sp>
        <p:nvSpPr>
          <p:cNvPr id="79" name="PlaceHolder 1"/>
          <p:cNvSpPr>
            <a:spLocks noGrp="1"/>
          </p:cNvSpPr>
          <p:nvPr>
            <p:ph type="dt" idx="2"/>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0" name="PlaceHolder 2"/>
          <p:cNvSpPr>
            <a:spLocks noGrp="1"/>
          </p:cNvSpPr>
          <p:nvPr>
            <p:ph type="ftr" idx="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3"/>
          <p:cNvSpPr>
            <a:spLocks noGrp="1"/>
          </p:cNvSpPr>
          <p:nvPr>
            <p:ph type="sldNum" idx="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D3A8-0515-4677-9A88-C4EF7D0C7A7B}"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2" name="PlaceHolder 4"/>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5"/>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Immagine 7" descr=""/>
          <p:cNvPicPr/>
          <p:nvPr/>
        </p:nvPicPr>
        <p:blipFill>
          <a:blip r:embed="rId2"/>
          <a:stretch/>
        </p:blipFill>
        <p:spPr>
          <a:xfrm>
            <a:off x="0" y="0"/>
            <a:ext cx="12192120" cy="6858000"/>
          </a:xfrm>
          <a:prstGeom prst="rect">
            <a:avLst/>
          </a:prstGeom>
          <a:ln w="0">
            <a:noFill/>
          </a:ln>
        </p:spPr>
      </p:pic>
      <p:sp>
        <p:nvSpPr>
          <p:cNvPr id="121" name="PlaceHolder 1"/>
          <p:cNvSpPr>
            <a:spLocks noGrp="1"/>
          </p:cNvSpPr>
          <p:nvPr>
            <p:ph type="dt" idx="5"/>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2" name="PlaceHolder 2"/>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3"/>
          <p:cNvSpPr>
            <a:spLocks noGrp="1"/>
          </p:cNvSpPr>
          <p:nvPr>
            <p:ph type="sldNum" idx="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CFA1-B151-4125-869B-F811BDC11941}"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magine 7" descr=""/>
          <p:cNvPicPr/>
          <p:nvPr/>
        </p:nvPicPr>
        <p:blipFill>
          <a:blip r:embed="rId2"/>
          <a:stretch/>
        </p:blipFill>
        <p:spPr>
          <a:xfrm>
            <a:off x="0" y="0"/>
            <a:ext cx="12192120" cy="6858000"/>
          </a:xfrm>
          <a:prstGeom prst="rect">
            <a:avLst/>
          </a:prstGeom>
          <a:ln w="0">
            <a:noFill/>
          </a:ln>
        </p:spPr>
      </p:pic>
      <p:sp>
        <p:nvSpPr>
          <p:cNvPr id="161" name="PlaceHolder 1"/>
          <p:cNvSpPr>
            <a:spLocks noGrp="1"/>
          </p:cNvSpPr>
          <p:nvPr>
            <p:ph type="dt" idx="8"/>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2" name="PlaceHolder 2"/>
          <p:cNvSpPr>
            <a:spLocks noGrp="1"/>
          </p:cNvSpPr>
          <p:nvPr>
            <p:ph type="ftr" idx="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3"/>
          <p:cNvSpPr>
            <a:spLocks noGrp="1"/>
          </p:cNvSpPr>
          <p:nvPr>
            <p:ph type="sldNum" idx="1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7C95-5C6A-4FA7-AFE5-7D499DB69A5D}"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Immagine 7" descr=""/>
          <p:cNvPicPr/>
          <p:nvPr/>
        </p:nvPicPr>
        <p:blipFill>
          <a:blip r:embed="rId2"/>
          <a:stretch/>
        </p:blipFill>
        <p:spPr>
          <a:xfrm>
            <a:off x="0" y="0"/>
            <a:ext cx="12192120" cy="6858000"/>
          </a:xfrm>
          <a:prstGeom prst="rect">
            <a:avLst/>
          </a:prstGeom>
          <a:ln w="0">
            <a:noFill/>
          </a:ln>
        </p:spPr>
      </p:pic>
      <p:sp>
        <p:nvSpPr>
          <p:cNvPr id="201" name="PlaceHolder 1"/>
          <p:cNvSpPr>
            <a:spLocks noGrp="1"/>
          </p:cNvSpPr>
          <p:nvPr>
            <p:ph type="dt" idx="11"/>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2" name="PlaceHolder 2"/>
          <p:cNvSpPr>
            <a:spLocks noGrp="1"/>
          </p:cNvSpPr>
          <p:nvPr>
            <p:ph type="ftr" idx="1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type="sldNum" idx="1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E288-ADC4-43C7-BBFA-60DC7B283EB9}"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Immagine 7" descr=""/>
          <p:cNvPicPr/>
          <p:nvPr/>
        </p:nvPicPr>
        <p:blipFill>
          <a:blip r:embed="rId2"/>
          <a:stretch/>
        </p:blipFill>
        <p:spPr>
          <a:xfrm>
            <a:off x="0" y="0"/>
            <a:ext cx="12192120" cy="6858000"/>
          </a:xfrm>
          <a:prstGeom prst="rect">
            <a:avLst/>
          </a:prstGeom>
          <a:ln w="0">
            <a:noFill/>
          </a:ln>
        </p:spPr>
      </p:pic>
      <p:sp>
        <p:nvSpPr>
          <p:cNvPr id="241" name="PlaceHolder 1"/>
          <p:cNvSpPr>
            <a:spLocks noGrp="1"/>
          </p:cNvSpPr>
          <p:nvPr>
            <p:ph type="dt" idx="14"/>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2" name="PlaceHolder 2"/>
          <p:cNvSpPr>
            <a:spLocks noGrp="1"/>
          </p:cNvSpPr>
          <p:nvPr>
            <p:ph type="ftr" idx="1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3"/>
          <p:cNvSpPr>
            <a:spLocks noGrp="1"/>
          </p:cNvSpPr>
          <p:nvPr>
            <p:ph type="sldNum" idx="1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F7DB-B0EF-4777-9CCD-580FD4453855}"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Immagine 7" descr=""/>
          <p:cNvPicPr/>
          <p:nvPr/>
        </p:nvPicPr>
        <p:blipFill>
          <a:blip r:embed="rId2"/>
          <a:stretch/>
        </p:blipFill>
        <p:spPr>
          <a:xfrm>
            <a:off x="0" y="0"/>
            <a:ext cx="12192120" cy="6858000"/>
          </a:xfrm>
          <a:prstGeom prst="rect">
            <a:avLst/>
          </a:prstGeom>
          <a:ln w="0">
            <a:noFill/>
          </a:ln>
        </p:spPr>
      </p:pic>
      <p:sp>
        <p:nvSpPr>
          <p:cNvPr id="281" name="PlaceHolder 1"/>
          <p:cNvSpPr>
            <a:spLocks noGrp="1"/>
          </p:cNvSpPr>
          <p:nvPr>
            <p:ph type="dt" idx="17"/>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2" name="PlaceHolder 2"/>
          <p:cNvSpPr>
            <a:spLocks noGrp="1"/>
          </p:cNvSpPr>
          <p:nvPr>
            <p:ph type="ftr" idx="1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3"/>
          <p:cNvSpPr>
            <a:spLocks noGrp="1"/>
          </p:cNvSpPr>
          <p:nvPr>
            <p:ph type="sldNum" idx="1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6893-72B9-4B40-9CC0-44B6BF2938C0}"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Immagine 7" descr=""/>
          <p:cNvPicPr/>
          <p:nvPr/>
        </p:nvPicPr>
        <p:blipFill>
          <a:blip r:embed="rId2"/>
          <a:stretch/>
        </p:blipFill>
        <p:spPr>
          <a:xfrm>
            <a:off x="0" y="0"/>
            <a:ext cx="12192120" cy="6858000"/>
          </a:xfrm>
          <a:prstGeom prst="rect">
            <a:avLst/>
          </a:prstGeom>
          <a:ln w="0">
            <a:noFill/>
          </a:ln>
        </p:spPr>
      </p:pic>
      <p:sp>
        <p:nvSpPr>
          <p:cNvPr id="321" name="PlaceHolder 1"/>
          <p:cNvSpPr>
            <a:spLocks noGrp="1"/>
          </p:cNvSpPr>
          <p:nvPr>
            <p:ph type="dt" idx="20"/>
          </p:nvPr>
        </p:nvSpPr>
        <p:spPr>
          <a:xfrm>
            <a:off x="838080" y="6356520"/>
            <a:ext cx="2743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2" name="PlaceHolder 2"/>
          <p:cNvSpPr>
            <a:spLocks noGrp="1"/>
          </p:cNvSpPr>
          <p:nvPr>
            <p:ph type="ftr" idx="2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type="sldNum" idx="2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F84A-25CE-4698-BAE6-4F186F576E88}" type="slidenum">
              <a:rPr b="0" lang="it-IT"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ttangolo 1"/>
          <p:cNvSpPr/>
          <p:nvPr/>
        </p:nvSpPr>
        <p:spPr>
          <a:xfrm>
            <a:off x="2989440" y="552600"/>
            <a:ext cx="8408880" cy="487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e75b6"/>
                </a:solidFill>
                <a:latin typeface="Arial"/>
                <a:ea typeface="Arial"/>
              </a:rPr>
              <a:t>E.QU.A.L.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75b6"/>
                </a:solidFill>
                <a:latin typeface="Arial"/>
                <a:ea typeface="Arial"/>
              </a:rPr>
              <a:t>Enhancing Qualification of Adult Learner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75b6"/>
                </a:solidFill>
                <a:latin typeface="Arial"/>
                <a:ea typeface="Arial"/>
              </a:rPr>
              <a:t>through the implementation of Upskilling pathway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75b6"/>
                </a:solidFill>
                <a:latin typeface="Arial"/>
                <a:ea typeface="Arial"/>
              </a:rPr>
              <a:t>Conferenza final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e75b6"/>
                </a:solidFill>
                <a:latin typeface="Arial"/>
                <a:ea typeface="Arial"/>
              </a:rPr>
              <a:t>Roma, 30 ottobre 201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e75b6"/>
                </a:solidFill>
                <a:latin typeface="Arial"/>
                <a:ea typeface="Arial"/>
              </a:rPr>
              <a:t>LA FORMAZIONE AL LAVORO E SUL LAVOR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2e75b6"/>
                </a:solidFill>
                <a:latin typeface="Arial"/>
                <a:ea typeface="Arial"/>
              </a:rPr>
              <a:t>DELL’AGENZIA DEL LAVORO DI TRENTO</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e75b6"/>
                </a:solidFill>
                <a:latin typeface="Arial"/>
                <a:ea typeface="Arial"/>
              </a:rPr>
              <a:t>Dott. Mauro Ghirotti – Direttore Ufficio Formazione e Sviluppo dell’Occupazion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2e75b6"/>
                </a:solidFill>
                <a:latin typeface="Arial"/>
                <a:ea typeface="Arial"/>
              </a:rPr>
              <a:t>Agenzia del lavoro di Tren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e75b6"/>
                </a:solidFill>
                <a:latin typeface="Arial"/>
                <a:ea typeface="Arial"/>
              </a:rPr>
              <a:t>EaSI programme – Awareness-raising activities in Member States on “Upskilling Pathways: New Opportunities for Adul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e75b6"/>
                </a:solidFill>
                <a:latin typeface="Arial"/>
                <a:ea typeface="Arial"/>
              </a:rPr>
              <a:t>Call for proposals VP/2017/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FORMAZIONE OCCUPATI. DATI DI ATTIVITÀ 2016-2018</a:t>
            </a:r>
            <a:endParaRPr b="0" lang="en-US" sz="4400" spc="-1" strike="noStrike">
              <a:solidFill>
                <a:srgbClr val="0070c0"/>
              </a:solidFill>
              <a:latin typeface="Arial Unicode MS"/>
            </a:endParaRPr>
          </a:p>
        </p:txBody>
      </p:sp>
      <p:graphicFrame>
        <p:nvGraphicFramePr>
          <p:cNvPr id="852" name=""/>
          <p:cNvGraphicFramePr/>
          <p:nvPr/>
        </p:nvGraphicFramePr>
        <p:xfrm>
          <a:off x="2394000" y="2048040"/>
          <a:ext cx="7404120" cy="2815920"/>
        </p:xfrm>
        <a:graphic>
          <a:graphicData uri="http://schemas.openxmlformats.org/drawingml/2006/table">
            <a:tbl>
              <a:tblPr/>
              <a:tblGrid>
                <a:gridCol w="1620720"/>
                <a:gridCol w="1341360"/>
                <a:gridCol w="1479600"/>
                <a:gridCol w="1481400"/>
                <a:gridCol w="1481040"/>
              </a:tblGrid>
              <a:tr h="52020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Linee di attività per occup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Tota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r>
              <a:tr h="520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Apprendistato professionalizzant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02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3.42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45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r>
              <a:tr h="520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Domande a sportell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12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38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20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Fondi e Enti Bilateral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8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6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5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6792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Alta formazion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0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3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23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3672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Total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2.24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3.73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5.27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11.24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CARATTERISTICHE DEL SISTEMA</a:t>
            </a:r>
            <a:endParaRPr b="0" lang="en-US" sz="4400" spc="-1" strike="noStrike">
              <a:solidFill>
                <a:srgbClr val="0070c0"/>
              </a:solidFill>
              <a:latin typeface="Arial Unicode MS"/>
            </a:endParaRPr>
          </a:p>
        </p:txBody>
      </p:sp>
      <p:sp>
        <p:nvSpPr>
          <p:cNvPr id="854"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modello si fonda sulla struttura dedicata, su una complessa rete di supporto interna all’Agenzia (i Centri per l’impiego soprattutto), sulla partecipazione degli Enti formativi accreditati, sulla collaborazione di altre strutture provinciali, delle parti sociali di Fondi interprofessionali ed Enti Bilateral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bbiamo posto a disposizione dei Centri per l’impiego una cassetta degli attrezzi utile al potenziamento dell’occupabilità, ma anche una strumentazione utile alla definizione di Patti di servizio con contenuti solidi e funzionali all’applicazione del principio di condizionalità, connesso al riconoscimento dello stato di disoccupazione ed alla eventuale percezione di ammortizzatori sociali e sussidi social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56"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Rispetto alle attività richiamate, grazie al progetto E.QU.A.L. abbiamo realizzato degli approfondimenti su tre linee di attività: quella dei </a:t>
            </a:r>
            <a:r>
              <a:rPr b="1" lang="it-IT" sz="2800" spc="-1" strike="noStrike">
                <a:solidFill>
                  <a:srgbClr val="000000"/>
                </a:solidFill>
                <a:latin typeface="Calibri"/>
              </a:rPr>
              <a:t>Corsi sulle “Competenze Chiave”</a:t>
            </a:r>
            <a:r>
              <a:rPr b="0" lang="it-IT" sz="2800" spc="-1" strike="noStrike">
                <a:solidFill>
                  <a:srgbClr val="000000"/>
                </a:solidFill>
                <a:latin typeface="Calibri"/>
              </a:rPr>
              <a:t>, i </a:t>
            </a:r>
            <a:r>
              <a:rPr b="1" lang="it-IT" sz="2800" spc="-1" strike="noStrike">
                <a:solidFill>
                  <a:srgbClr val="000000"/>
                </a:solidFill>
                <a:latin typeface="Calibri"/>
              </a:rPr>
              <a:t>Corsi professionalizzanti a Voucher </a:t>
            </a:r>
            <a:r>
              <a:rPr b="0" lang="it-IT" sz="2800" spc="-1" strike="noStrike">
                <a:solidFill>
                  <a:srgbClr val="000000"/>
                </a:solidFill>
                <a:latin typeface="Calibri"/>
              </a:rPr>
              <a:t>e la misura per il </a:t>
            </a:r>
            <a:r>
              <a:rPr b="1" lang="it-IT" sz="2800" spc="-1" strike="noStrike">
                <a:solidFill>
                  <a:srgbClr val="000000"/>
                </a:solidFill>
                <a:latin typeface="Calibri"/>
              </a:rPr>
              <a:t>Rimborso dei costi di partecipazione a corsi professionalizzanti</a:t>
            </a:r>
            <a:r>
              <a:rPr b="0" lang="it-IT"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ale attenzione è motivata dalla particolare attinenza di queste misure con il tema dell’educazione degli adulti (usciti da tempo dal sistema ordinario di istruzione e formazione), ma anche dal volume degli investimenti in termini economici e dal numero complessivo dei soggetti interessati dalle iniziative forma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58"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corsi  per le Competenze chiave hanno una durata di 60 ore, delle quali 16 sono dedicate alla ricerca attiva del lavoro, elementi di informatica e salute e sicurezza sul posto di lavoro; le rimanenti 44 riguardano in senso stretto una delle 8 competenze chiav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l’informatica abbiamo tre tipi di offerta e per l’autoimprenditoria abbiamo un livello base ed uno avanzato.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0"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 corsi sono presenti su tutto il territorio provinciale, con la partenza di 20 edizioni al me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ono quindi mensilmente disponibili massimo 500 opportunità formative, ma mediamente raggiungiamo i 400 iscritt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ono impegnate mediamente 200.000,00 Euro al mes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costo individuale di un corsista è di circa 500 Eu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2" name=""/>
          <p:cNvSpPr txBox="1"/>
          <p:nvPr/>
        </p:nvSpPr>
        <p:spPr>
          <a:xfrm>
            <a:off x="247320" y="1480680"/>
            <a:ext cx="11675880" cy="4550040"/>
          </a:xfrm>
          <a:prstGeom prst="rect">
            <a:avLst/>
          </a:prstGeom>
          <a:noFill/>
          <a:ln w="0">
            <a:noFill/>
          </a:ln>
        </p:spPr>
        <p:txBody>
          <a:bodyPr lIns="90000" rIns="90000" tIns="46800" bIns="46800"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ui Corsi delle competenze chiave, la ricerca ha messo in evidenza alcuni </a:t>
            </a:r>
            <a:r>
              <a:rPr b="1" lang="it-IT" sz="2800" spc="-1" strike="noStrike">
                <a:solidFill>
                  <a:srgbClr val="000000"/>
                </a:solidFill>
                <a:latin typeface="Calibri"/>
              </a:rPr>
              <a:t>elementi positivi</a:t>
            </a:r>
            <a:r>
              <a:rPr b="0" lang="it-IT"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 fruibilità su tutto il territorio, comprese le aree molto periferich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apprezzamento del modulo sulla ricerca attiva di lavor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potenziamento motivazionale che ingenera la partecipazion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Gli elementi di </a:t>
            </a:r>
            <a:r>
              <a:rPr b="1" lang="it-IT" sz="2800" spc="-1" strike="noStrike">
                <a:solidFill>
                  <a:srgbClr val="000000"/>
                </a:solidFill>
                <a:latin typeface="Calibri"/>
              </a:rPr>
              <a:t>criticità</a:t>
            </a:r>
            <a:r>
              <a:rPr b="0" lang="it-IT" sz="2800" spc="-1" strike="noStrike">
                <a:solidFill>
                  <a:srgbClr val="000000"/>
                </a:solidFill>
                <a:latin typeface="Calibri"/>
              </a:rPr>
              <a:t> emersi:</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na presenza in aula di corsisti con caratteristiche e competenze molto divers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basso numero di ore sulla competenza chiave specifica;</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arenze orientative in fase di scelta;</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ssenza di certificazione delle competenz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4" name=""/>
          <p:cNvSpPr txBox="1"/>
          <p:nvPr/>
        </p:nvSpPr>
        <p:spPr>
          <a:xfrm>
            <a:off x="247320" y="1289160"/>
            <a:ext cx="11675880" cy="473688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 seguito di tali indicazioni e della decisione di offrire a tutti coloro che stipulano il Patto di servizio alcuni argomenti ora presenti solo nelle “Competenze Chiave”, stiamo reimpostando il sistema.</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atti, è in preparazione un Avviso per realizzare dei percorsi dedicati esclusivamente alla ricerca attiva di lavoro e con una parte opzionale sulla sicurezza, della durata di 16 ore su 4 mattine consecutive e per una potenzialità di 9.000 utenti/anno.</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Verranno, in particolare, sviluppati i seguenti contenuti:</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ricerca attiva del lavoro con panoramica di tutti i canali, anche web, per trovare lavor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ormazioni di base sulle politiche attive e passiv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disposizione per tutti i partecipanti del CV e inserimento nel portale dedicato “Trentino Lavor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tilizzo dell’informatica per la compilazione della DID online e della domanda di NASp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6" name=""/>
          <p:cNvSpPr txBox="1"/>
          <p:nvPr/>
        </p:nvSpPr>
        <p:spPr>
          <a:xfrm>
            <a:off x="247320" y="1390680"/>
            <a:ext cx="11675880" cy="463536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 partire dall’estate 2020, i corsi “Competenze Chiave” non tratteranno più il tema della ricerca attiva e sicurezza.</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n il nuovo sistema, quindi, le 60 ore saranno svolte sugli argomenti delle singole competenz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Verranno poi valorizzate quelle competenze che hanno dimostrato un maggior gradimento dell’utenza: in particolare, si attiveranno percorsi di informatica, lingue, imprenditorialità, italiano per stranieri, con differenti gradi di approfondimento, creando pertanto livelli base e avanzati ed introducendo una valutazione delle competenze di ingress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68" name=""/>
          <p:cNvSpPr txBox="1"/>
          <p:nvPr/>
        </p:nvSpPr>
        <p:spPr>
          <a:xfrm>
            <a:off x="247320" y="1407600"/>
            <a:ext cx="11675880" cy="4550040"/>
          </a:xfrm>
          <a:prstGeom prst="rect">
            <a:avLst/>
          </a:prstGeom>
          <a:noFill/>
          <a:ln w="0">
            <a:noFill/>
          </a:ln>
        </p:spPr>
        <p:txBody>
          <a:bodyPr lIns="90000" rIns="90000" tIns="46800" bIns="46800" anchor="t">
            <a:normAutofit fontScale="97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a:t>
            </a:r>
            <a:r>
              <a:rPr b="1" lang="it-IT" sz="2400" spc="-1" strike="noStrike">
                <a:solidFill>
                  <a:srgbClr val="000000"/>
                </a:solidFill>
                <a:latin typeface="Calibri"/>
              </a:rPr>
              <a:t>attività formative professionalizzanti </a:t>
            </a:r>
            <a:r>
              <a:rPr b="0" lang="it-IT" sz="2400" spc="-1" strike="noStrike">
                <a:solidFill>
                  <a:srgbClr val="000000"/>
                </a:solidFill>
                <a:latin typeface="Calibri"/>
              </a:rPr>
              <a:t>sostenute tramite </a:t>
            </a:r>
            <a:r>
              <a:rPr b="1" lang="it-IT" sz="2400" spc="-1" strike="noStrike">
                <a:solidFill>
                  <a:srgbClr val="000000"/>
                </a:solidFill>
                <a:latin typeface="Calibri"/>
              </a:rPr>
              <a:t>Voucher</a:t>
            </a:r>
            <a:r>
              <a:rPr b="0" lang="it-IT" sz="2400" spc="-1" strike="noStrike">
                <a:solidFill>
                  <a:srgbClr val="000000"/>
                </a:solidFill>
                <a:latin typeface="Calibri"/>
              </a:rPr>
              <a:t> hanno evidenziato i seguenti </a:t>
            </a:r>
            <a:r>
              <a:rPr b="1" lang="it-IT" sz="2400" spc="-1" strike="noStrike">
                <a:solidFill>
                  <a:srgbClr val="000000"/>
                </a:solidFill>
                <a:latin typeface="Calibri"/>
              </a:rPr>
              <a:t>aspetti positivi</a:t>
            </a:r>
            <a:r>
              <a:rPr b="0" lang="it-IT" sz="2400" spc="-1" strike="noStrike">
                <a:solidFill>
                  <a:srgbClr val="000000"/>
                </a:solidFill>
                <a:latin typeface="Calibri"/>
              </a:rPr>
              <a:t>:</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proposte formative sono di breve durata e in grado di preparare i soggetti sulle competenze realmente richieste dal mercato del lavoro local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nte formativo può fare una selezione fra i vari candidati e questo permette la creazione di gruppi più omogenei e motivati rispetto a quelli delle “Competenze Chiav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Gli elementi di </a:t>
            </a:r>
            <a:r>
              <a:rPr b="1" lang="it-IT" sz="2400" spc="-1" strike="noStrike">
                <a:solidFill>
                  <a:srgbClr val="000000"/>
                </a:solidFill>
                <a:latin typeface="Calibri"/>
              </a:rPr>
              <a:t>criticità</a:t>
            </a:r>
            <a:r>
              <a:rPr b="0" lang="it-IT" sz="2400" spc="-1" strike="noStrike">
                <a:solidFill>
                  <a:srgbClr val="000000"/>
                </a:solidFill>
                <a:latin typeface="Calibri"/>
              </a:rPr>
              <a:t> emersi:</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on è prevista una certificazione formale, ma solo una “dichiarazione delle competenze”, la certificazione aumenterebbe la spendibilità fuori dal territorio provinciale delle competenze acquisite; </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oca possibilità di sotto-articolare i percorsi: una maggiore flessibilità permetterebbe di non dovere erogare formazione su competenze che il partecipante già possiede. </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AGENZIA ED IL PROGETTO E.QU.A.L.</a:t>
            </a:r>
            <a:endParaRPr b="0" lang="en-US" sz="4400" spc="-1" strike="noStrike">
              <a:solidFill>
                <a:srgbClr val="0070c0"/>
              </a:solidFill>
              <a:latin typeface="Arial Unicode MS"/>
            </a:endParaRPr>
          </a:p>
        </p:txBody>
      </p:sp>
      <p:sp>
        <p:nvSpPr>
          <p:cNvPr id="870" name=""/>
          <p:cNvSpPr txBox="1"/>
          <p:nvPr/>
        </p:nvSpPr>
        <p:spPr>
          <a:xfrm>
            <a:off x="247320" y="1344240"/>
            <a:ext cx="11675880" cy="469116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la recente costruzione del nuovo catalogo provinciale dell’</a:t>
            </a:r>
            <a:r>
              <a:rPr b="1" lang="it-IT" sz="2400" spc="-1" strike="noStrike">
                <a:solidFill>
                  <a:srgbClr val="000000"/>
                </a:solidFill>
                <a:latin typeface="Calibri"/>
              </a:rPr>
              <a:t>offerta</a:t>
            </a:r>
            <a:r>
              <a:rPr b="0" lang="it-IT" sz="2400" spc="-1" strike="noStrike">
                <a:solidFill>
                  <a:srgbClr val="000000"/>
                </a:solidFill>
                <a:latin typeface="Calibri"/>
              </a:rPr>
              <a:t> </a:t>
            </a:r>
            <a:r>
              <a:rPr b="1" lang="it-IT" sz="2400" spc="-1" strike="noStrike">
                <a:solidFill>
                  <a:srgbClr val="000000"/>
                </a:solidFill>
                <a:latin typeface="Calibri"/>
              </a:rPr>
              <a:t>formativa</a:t>
            </a:r>
            <a:r>
              <a:rPr b="0" lang="it-IT" sz="2400" spc="-1" strike="noStrike">
                <a:solidFill>
                  <a:srgbClr val="000000"/>
                </a:solidFill>
                <a:latin typeface="Calibri"/>
              </a:rPr>
              <a:t> </a:t>
            </a:r>
            <a:r>
              <a:rPr b="1" lang="it-IT" sz="2400" spc="-1" strike="noStrike">
                <a:solidFill>
                  <a:srgbClr val="000000"/>
                </a:solidFill>
                <a:latin typeface="Calibri"/>
              </a:rPr>
              <a:t>a Voucher </a:t>
            </a:r>
            <a:r>
              <a:rPr b="0" lang="it-IT" sz="2400" spc="-1" strike="noStrike">
                <a:solidFill>
                  <a:srgbClr val="000000"/>
                </a:solidFill>
                <a:latin typeface="Calibri"/>
              </a:rPr>
              <a:t>abbiamo quindi cercato di valorizzare ulteriormente il collegamento fra formazione e bisogni contingenti espressi dal mercato del lavoro.</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atti, abbiamo concentrato la nostra attenzione, anche se non in modo esclusivo, su alcune categorie professionali, individuate con la collaborazione dell’Osservatorio del mercato del lavoro; abbiamo inoltre chiesto agli enti formativi degli impegni formali su inserimenti lavorativi certi, collegati a ciascun progetto formativo presentato.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fine, sulla </a:t>
            </a:r>
            <a:r>
              <a:rPr b="1" lang="it-IT" sz="2400" spc="-1" strike="noStrike">
                <a:solidFill>
                  <a:srgbClr val="000000"/>
                </a:solidFill>
                <a:latin typeface="Calibri"/>
              </a:rPr>
              <a:t>misura di rimborso dei costi di partecipazione a corsi professionalizzanti</a:t>
            </a:r>
            <a:r>
              <a:rPr b="0" lang="it-IT" sz="2400" spc="-1" strike="noStrike">
                <a:solidFill>
                  <a:srgbClr val="000000"/>
                </a:solidFill>
                <a:latin typeface="Calibri"/>
              </a:rPr>
              <a:t>, si è confermato il fatto che, per sua natura, concede poco spazio di programmazione e monitoraggio di qualità.</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llo stesso tempo, offre preziosissime opportunità di formazione ai soggetti che abbiano voglia di partecipare a corsi non disponibili nel catalogo provinciale ed è quindi, da parte nostra, una linea di attività da confermare e da potenziar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GLI ELEMENTI DEL SISTEMA</a:t>
            </a:r>
            <a:endParaRPr b="0" lang="en-US" sz="4400" spc="-1" strike="noStrike">
              <a:solidFill>
                <a:srgbClr val="0070c0"/>
              </a:solidFill>
              <a:latin typeface="Arial Unicode MS"/>
            </a:endParaRPr>
          </a:p>
        </p:txBody>
      </p:sp>
      <p:sp>
        <p:nvSpPr>
          <p:cNvPr id="835" name=""/>
          <p:cNvSpPr txBox="1"/>
          <p:nvPr/>
        </p:nvSpPr>
        <p:spPr>
          <a:xfrm>
            <a:off x="838080" y="1825200"/>
            <a:ext cx="10515600" cy="43513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settore “Formazione e sviluppo dell’occupazione” dell’Agenzia del lavoro è stato costituito ad ottobre del 2015, mediante l’accorpamento di competenze che erano precedentemente assegnate a tre diversi uffici intern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so ha il compito di dare attuazione, a livello provinciale, a tutte </a:t>
            </a:r>
            <a:r>
              <a:rPr b="1" lang="it-IT" sz="2800" spc="-1" strike="noStrike">
                <a:solidFill>
                  <a:srgbClr val="000000"/>
                </a:solidFill>
                <a:latin typeface="Calibri"/>
              </a:rPr>
              <a:t>le misure di politica del lavoro che hanno un carattere di natura formativa</a:t>
            </a:r>
            <a:r>
              <a:rPr b="0" lang="it-IT"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Rettangolo 1" descr=""/>
          <p:cNvPicPr/>
          <p:nvPr/>
        </p:nvPicPr>
        <p:blipFill>
          <a:blip r:embed="rId1"/>
          <a:stretch/>
        </p:blipFill>
        <p:spPr>
          <a:xfrm>
            <a:off x="2981160" y="438120"/>
            <a:ext cx="8448840" cy="403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GLI ELEMENTI DEL SISTEMA</a:t>
            </a:r>
            <a:endParaRPr b="0" lang="en-US" sz="4400" spc="-1" strike="noStrike">
              <a:solidFill>
                <a:srgbClr val="0070c0"/>
              </a:solidFill>
              <a:latin typeface="Arial Unicode MS"/>
            </a:endParaRPr>
          </a:p>
        </p:txBody>
      </p:sp>
      <p:sp>
        <p:nvSpPr>
          <p:cNvPr id="837" name=""/>
          <p:cNvSpPr txBox="1"/>
          <p:nvPr/>
        </p:nvSpPr>
        <p:spPr>
          <a:xfrm>
            <a:off x="838080" y="1825200"/>
            <a:ext cx="10515600" cy="43513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Il fatto di avere inserito lo sviluppo delle politiche formative per il lavoro in una Agenzia del lavoro provinciale, che a sua volta ha il compito di coordinare e gestire i Centri per l’impiego, ha lo scopo di rendere agevole, integrare e coordinare fra loro le azioni di politica attiva e dei servizi per l’impiego, specialmente quelle in favore dei disoccupati. A tal proposito, ritengo utile sottolineare la scelta di attribuire ai </a:t>
            </a:r>
            <a:r>
              <a:rPr b="1" lang="it-IT" sz="2800" spc="-1" strike="noStrike">
                <a:solidFill>
                  <a:srgbClr val="000000"/>
                </a:solidFill>
                <a:latin typeface="Calibri"/>
              </a:rPr>
              <a:t>Centri per l’impiego </a:t>
            </a:r>
            <a:r>
              <a:rPr b="0" lang="it-IT" sz="2800" spc="-1" strike="noStrike">
                <a:solidFill>
                  <a:srgbClr val="000000"/>
                </a:solidFill>
                <a:latin typeface="Calibri"/>
              </a:rPr>
              <a:t>il ruolo esclusivo di gestire e governare l’accesso ai servizi formativi proposti nei confronti dei disoccupat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GLI ELEMENTI DEL SISTEMA</a:t>
            </a:r>
            <a:endParaRPr b="0" lang="en-US" sz="4400" spc="-1" strike="noStrike">
              <a:solidFill>
                <a:srgbClr val="0070c0"/>
              </a:solidFill>
              <a:latin typeface="Arial Unicode MS"/>
            </a:endParaRPr>
          </a:p>
        </p:txBody>
      </p:sp>
      <p:sp>
        <p:nvSpPr>
          <p:cNvPr id="839" name=""/>
          <p:cNvSpPr txBox="1"/>
          <p:nvPr/>
        </p:nvSpPr>
        <p:spPr>
          <a:xfrm>
            <a:off x="838080" y="1825200"/>
            <a:ext cx="10515600" cy="43513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ltra scelta per noi innovativa è stata quella di realizzare alcune attività formative secondo un sistema imperniato sull’utilizzo del Voucher. È stata una scelta organizzativa che si è dimostrata molto efficiente, efficace e di largo successo.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attività che abbiamo organizzato con la gestione a voucher sono i </a:t>
            </a:r>
            <a:r>
              <a:rPr b="1" lang="it-IT" sz="2800" spc="-1" strike="noStrike">
                <a:solidFill>
                  <a:srgbClr val="000000"/>
                </a:solidFill>
                <a:latin typeface="Calibri"/>
              </a:rPr>
              <a:t>corsi professionalizzanti a catalogo e la formazione di base e trasversale in apprendistato professionalizzante</a:t>
            </a:r>
            <a:r>
              <a:rPr b="0" lang="it-IT" sz="2800" spc="-1" strike="noStrike">
                <a:solidFill>
                  <a:srgbClr val="000000"/>
                </a:solidFill>
                <a:latin typeface="Calibri"/>
              </a:rPr>
              <a:t>, ma anche la seconda fase del nostro percorso di </a:t>
            </a:r>
            <a:r>
              <a:rPr b="1" lang="it-IT" sz="2800" spc="-1" strike="noStrike">
                <a:solidFill>
                  <a:srgbClr val="000000"/>
                </a:solidFill>
                <a:latin typeface="Calibri"/>
              </a:rPr>
              <a:t>Garanzia Giovani</a:t>
            </a:r>
            <a:r>
              <a:rPr b="0" lang="it-IT" sz="2800" spc="-1" strike="noStrike">
                <a:solidFill>
                  <a:srgbClr val="000000"/>
                </a:solidFill>
                <a:latin typeface="Calibri"/>
              </a:rPr>
              <a:t> acquisisce alcuni elementi caratteristici della gestione a voucher.</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I CORSI PER DISOCCUPATI</a:t>
            </a:r>
            <a:endParaRPr b="0" lang="en-US" sz="4400" spc="-1" strike="noStrike">
              <a:solidFill>
                <a:srgbClr val="0070c0"/>
              </a:solidFill>
              <a:latin typeface="Arial Unicode MS"/>
            </a:endParaRPr>
          </a:p>
        </p:txBody>
      </p:sp>
      <p:sp>
        <p:nvSpPr>
          <p:cNvPr id="841" name=""/>
          <p:cNvSpPr txBox="1"/>
          <p:nvPr/>
        </p:nvSpPr>
        <p:spPr>
          <a:xfrm>
            <a:off x="838080" y="1679400"/>
            <a:ext cx="10515600" cy="435168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Competenze Chiave”</a:t>
            </a:r>
            <a:r>
              <a:rPr b="0" lang="it-IT" sz="2800" spc="-1" strike="noStrike">
                <a:solidFill>
                  <a:srgbClr val="000000"/>
                </a:solidFill>
                <a:latin typeface="Calibri"/>
              </a:rPr>
              <a:t>. L’Unione Europea promuove e finanzia la formazione degli adulti su 8 competenze: la comunicazione nella madrelingua e in lingue straniere, le competenze informatiche, quelle matematiche ed in campo scientifico/tecnologico, le competenze sociali e civiche, consapevolezza ed espressione culturale, imparare ad imparare e nuova imprenditorialità.</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professionalizzanti </a:t>
            </a:r>
            <a:r>
              <a:rPr b="0" lang="it-IT" sz="2800" spc="-1" strike="noStrike">
                <a:solidFill>
                  <a:srgbClr val="000000"/>
                </a:solidFill>
                <a:latin typeface="Calibri"/>
              </a:rPr>
              <a:t>a </a:t>
            </a:r>
            <a:r>
              <a:rPr b="1" lang="it-IT" sz="2800" spc="-1" strike="noStrike">
                <a:solidFill>
                  <a:srgbClr val="000000"/>
                </a:solidFill>
                <a:latin typeface="Calibri"/>
              </a:rPr>
              <a:t>Voucher</a:t>
            </a:r>
            <a:r>
              <a:rPr b="0" lang="it-IT" sz="2800" spc="-1" strike="noStrike">
                <a:solidFill>
                  <a:srgbClr val="000000"/>
                </a:solidFill>
                <a:latin typeface="Calibri"/>
              </a:rPr>
              <a:t> ed a </a:t>
            </a:r>
            <a:r>
              <a:rPr b="1" lang="it-IT" sz="2800" spc="-1" strike="noStrike">
                <a:solidFill>
                  <a:srgbClr val="000000"/>
                </a:solidFill>
                <a:latin typeface="Calibri"/>
              </a:rPr>
              <a:t>Rimborso</a:t>
            </a:r>
            <a:r>
              <a:rPr b="0" lang="it-IT" sz="2800" spc="-1" strike="noStrike">
                <a:solidFill>
                  <a:srgbClr val="000000"/>
                </a:solidFill>
                <a:latin typeface="Calibri"/>
              </a:rPr>
              <a:t> dei costi di iscrizione, per potenziare l’apprendimento o il consolidamento di saperi che consentano l’esercizio di mansioni più o meno complesse o specializzazioni, al fine di incrementare il potenziale di occupabilità dell’utent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I CORSI PER DISOCCUPATI</a:t>
            </a:r>
            <a:endParaRPr b="0" lang="en-US" sz="4400" spc="-1" strike="noStrike">
              <a:solidFill>
                <a:srgbClr val="0070c0"/>
              </a:solidFill>
              <a:latin typeface="Arial Unicode MS"/>
            </a:endParaRPr>
          </a:p>
        </p:txBody>
      </p:sp>
      <p:sp>
        <p:nvSpPr>
          <p:cNvPr id="843" name=""/>
          <p:cNvSpPr txBox="1"/>
          <p:nvPr/>
        </p:nvSpPr>
        <p:spPr>
          <a:xfrm>
            <a:off x="838080" y="1679400"/>
            <a:ext cx="10515600" cy="4351680"/>
          </a:xfrm>
          <a:prstGeom prst="rect">
            <a:avLst/>
          </a:prstGeom>
          <a:noFill/>
          <a:ln w="0">
            <a:noFill/>
          </a:ln>
        </p:spPr>
        <p:txBody>
          <a:bodyPr lIns="90000" rIns="90000" tIns="46800" bIns="46800"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brevissimi “Pronti a ripartire</a:t>
            </a:r>
            <a:r>
              <a:rPr b="0" lang="it-IT" sz="2800" spc="-1" strike="noStrike">
                <a:solidFill>
                  <a:srgbClr val="000000"/>
                </a:solidFill>
                <a:latin typeface="Calibri"/>
              </a:rPr>
              <a:t>”, per l’addestramento alla ricerca attiva di lavoro</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Corsi di cultura generale </a:t>
            </a:r>
            <a:r>
              <a:rPr b="0" lang="it-IT" sz="2800" spc="-1" strike="noStrike">
                <a:solidFill>
                  <a:srgbClr val="000000"/>
                </a:solidFill>
                <a:latin typeface="Calibri"/>
              </a:rPr>
              <a:t>e per l’acquisizione della </a:t>
            </a:r>
            <a:r>
              <a:rPr b="1" lang="it-IT" sz="2800" spc="-1" strike="noStrike">
                <a:solidFill>
                  <a:srgbClr val="000000"/>
                </a:solidFill>
                <a:latin typeface="Calibri"/>
              </a:rPr>
              <a:t>lingua italiana per stranier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Garanzia Giovani</a:t>
            </a:r>
            <a:r>
              <a:rPr b="0" lang="it-IT" sz="2800" spc="-1" strike="noStrike">
                <a:solidFill>
                  <a:srgbClr val="000000"/>
                </a:solidFill>
                <a:latin typeface="Calibri"/>
              </a:rPr>
              <a:t>, con l’attivazione di percorsi comprendenti moduli (schede) di orientamento, di formazione professionale (60 ore) e la successiva realizzazione di Tirocin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Tirocini </a:t>
            </a:r>
            <a:r>
              <a:rPr b="0" lang="it-IT" sz="2800" spc="-1" strike="noStrike">
                <a:solidFill>
                  <a:srgbClr val="000000"/>
                </a:solidFill>
                <a:latin typeface="Calibri"/>
              </a:rPr>
              <a:t>presso</a:t>
            </a:r>
            <a:r>
              <a:rPr b="1" lang="it-IT" sz="2800" spc="-1" strike="noStrike">
                <a:solidFill>
                  <a:srgbClr val="000000"/>
                </a:solidFill>
                <a:latin typeface="Calibri"/>
              </a:rPr>
              <a:t> Maestri Artigian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Tirocini formativi e di orientamento</a:t>
            </a:r>
            <a:r>
              <a:rPr b="0" lang="it-IT" sz="2800" spc="-1" strike="noStrike">
                <a:solidFill>
                  <a:srgbClr val="000000"/>
                </a:solidFill>
                <a:latin typeface="Calibri"/>
              </a:rPr>
              <a:t>, caratterizzati da progetti con significativi contenuti formativ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LE INIZIATIVE PER GLI OCCUPATI</a:t>
            </a:r>
            <a:endParaRPr b="0" lang="en-US" sz="4400" spc="-1" strike="noStrike">
              <a:solidFill>
                <a:srgbClr val="0070c0"/>
              </a:solidFill>
              <a:latin typeface="Arial Unicode MS"/>
            </a:endParaRPr>
          </a:p>
        </p:txBody>
      </p:sp>
      <p:sp>
        <p:nvSpPr>
          <p:cNvPr id="845" name=""/>
          <p:cNvSpPr txBox="1"/>
          <p:nvPr/>
        </p:nvSpPr>
        <p:spPr>
          <a:xfrm>
            <a:off x="247320" y="1480680"/>
            <a:ext cx="11675880" cy="4550040"/>
          </a:xfrm>
          <a:prstGeom prst="rect">
            <a:avLst/>
          </a:prstGeom>
          <a:noFill/>
          <a:ln w="0">
            <a:noFill/>
          </a:ln>
        </p:spPr>
        <p:txBody>
          <a:bodyPr lIns="90000" rIns="90000" tIns="46800" bIns="46800"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Interventi “a sportello” su domanda aziendale</a:t>
            </a:r>
            <a:r>
              <a:rPr b="0" lang="it-IT" sz="2800" spc="-1" strike="noStrike">
                <a:solidFill>
                  <a:srgbClr val="000000"/>
                </a:solidFill>
                <a:latin typeface="Calibri"/>
              </a:rPr>
              <a:t>: contributi per la formazione individuale, progetti di formazione collettiva  e progetti di formazione per il miglioramento della salute e sicurezza sul lavoro (oltre l’obbligo).</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Formazione di base e trasversale per l’apprendistato professionalizzante</a:t>
            </a:r>
            <a:r>
              <a:rPr b="0" lang="it-IT" sz="2800" spc="-1" strike="noStrike">
                <a:solidFill>
                  <a:srgbClr val="000000"/>
                </a:solidFill>
                <a:latin typeface="Calibri"/>
              </a:rPr>
              <a:t>: dal gennaio 2017 la formazione pubblica obbligatoria sull’Apprendistato professionalizzante è gestita con un sistema basato sullo strumento del Voucher.</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Interventi a cofinanziamento di Fondi interprofessionali o Enti bilaterali</a:t>
            </a:r>
            <a:r>
              <a:rPr b="0" lang="it-IT" sz="2800" spc="-1" strike="noStrike">
                <a:solidFill>
                  <a:srgbClr val="000000"/>
                </a:solidFill>
                <a:latin typeface="Calibri"/>
              </a:rPr>
              <a:t>: è una linea di attività che intende realizzare una collaborazione fra fonti diverse di finanziamento, per integrare ed ottimizzare tali risorse in funzione di alcuni obiettivi condivisi</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LE LINEE DI ATTIVITÀ: LE INIZIATIVE PER GLI OCCUPATI</a:t>
            </a:r>
            <a:endParaRPr b="0" lang="en-US" sz="4400" spc="-1" strike="noStrike">
              <a:solidFill>
                <a:srgbClr val="0070c0"/>
              </a:solidFill>
              <a:latin typeface="Arial Unicode MS"/>
            </a:endParaRPr>
          </a:p>
        </p:txBody>
      </p:sp>
      <p:sp>
        <p:nvSpPr>
          <p:cNvPr id="847" name=""/>
          <p:cNvSpPr txBox="1"/>
          <p:nvPr/>
        </p:nvSpPr>
        <p:spPr>
          <a:xfrm>
            <a:off x="247320" y="1480680"/>
            <a:ext cx="11675880" cy="455004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ppare opportuno sottolineare il forte impegno che abbiamo espresso nella ricerca e definizione di accordi  con i Fondi interprofessionali. Attualmente, abbiamo attive ben tre convenzioni di collaborazion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a:t>
            </a:r>
            <a:r>
              <a:rPr b="1" lang="it-IT" sz="2400" spc="-1" strike="noStrike">
                <a:solidFill>
                  <a:srgbClr val="000000"/>
                </a:solidFill>
                <a:latin typeface="Calibri"/>
              </a:rPr>
              <a:t>Fondo Artigianato Formazione </a:t>
            </a:r>
            <a:r>
              <a:rPr b="0" lang="it-IT" sz="2400" spc="-1" strike="noStrike">
                <a:solidFill>
                  <a:srgbClr val="000000"/>
                </a:solidFill>
                <a:latin typeface="Calibri"/>
              </a:rPr>
              <a:t>stiamo realizzando da tempo un’azione per sostenere l’accesso alle opportunità formative del Fondo di partecipanti-datori di lavoro e collaboratori non dipendenti- non finanziabili da quest’ultim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n il </a:t>
            </a:r>
            <a:r>
              <a:rPr b="1" lang="it-IT" sz="2400" spc="-1" strike="noStrike">
                <a:solidFill>
                  <a:srgbClr val="000000"/>
                </a:solidFill>
                <a:latin typeface="Calibri"/>
              </a:rPr>
              <a:t>Fondo For.Te </a:t>
            </a:r>
            <a:r>
              <a:rPr b="0" lang="it-IT" sz="2400" spc="-1" strike="noStrike">
                <a:solidFill>
                  <a:srgbClr val="000000"/>
                </a:solidFill>
                <a:latin typeface="Calibri"/>
              </a:rPr>
              <a:t>abbiamo recentemente instaurato una collaborazione simile a quella attiva per Fondartigianato, suscettibile peraltro di sviluppi a breve termin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ultima Convenzione stipulata è con </a:t>
            </a:r>
            <a:r>
              <a:rPr b="1" lang="it-IT" sz="2400" spc="-1" strike="noStrike">
                <a:solidFill>
                  <a:srgbClr val="000000"/>
                </a:solidFill>
                <a:latin typeface="Calibri"/>
              </a:rPr>
              <a:t>Fondimpresa</a:t>
            </a:r>
            <a:r>
              <a:rPr b="0" lang="it-IT" sz="2400" spc="-1" strike="noStrike">
                <a:solidFill>
                  <a:srgbClr val="000000"/>
                </a:solidFill>
                <a:latin typeface="Calibri"/>
              </a:rPr>
              <a:t> ed è finalizzata alla realizzazione di iniziative formative per disoccupati, finanziate dall’Agenzia, ma con contenuti perfettamente simili ai corsi realizzati dal Fondo.</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8" name=""/>
          <p:cNvGraphicFramePr/>
          <p:nvPr/>
        </p:nvGraphicFramePr>
        <p:xfrm>
          <a:off x="2395440" y="1635120"/>
          <a:ext cx="7404120" cy="4216320"/>
        </p:xfrm>
        <a:graphic>
          <a:graphicData uri="http://schemas.openxmlformats.org/drawingml/2006/table">
            <a:tbl>
              <a:tblPr/>
              <a:tblGrid>
                <a:gridCol w="1481400"/>
                <a:gridCol w="1481040"/>
                <a:gridCol w="1479600"/>
                <a:gridCol w="1481040"/>
                <a:gridCol w="1481040"/>
              </a:tblGrid>
              <a:tr h="5414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Linee di attività per disoccup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20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c>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ffffff"/>
                          </a:solidFill>
                          <a:latin typeface="Calibri"/>
                        </a:rPr>
                        <a:t>Tota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18ab3"/>
                    </a:solidFill>
                  </a:tcPr>
                </a:tc>
              </a:tr>
              <a:tr h="3744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Pronti a ripartir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57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29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91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fdae5"/>
                    </a:solidFill>
                  </a:tcPr>
                </a:tc>
              </a:tr>
              <a:tr h="5400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Competenze chia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68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74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32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0.75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4108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Voucher  profes-</a:t>
                      </a:r>
                      <a:endParaRPr b="0" lang="en-US" sz="14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sionalizzan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01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5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0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37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7332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Corsi italian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9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87</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7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95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4108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Rimborso profes-</a:t>
                      </a:r>
                      <a:endParaRPr b="0" lang="en-US" sz="14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sionalizzant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0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76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50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7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8916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Tirocini di qualità</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4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82</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451**</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87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r h="54144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Garanzia Giovani Percorso A</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168</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0</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245</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400" spc="-1" strike="noStrike">
                          <a:solidFill>
                            <a:srgbClr val="000000"/>
                          </a:solidFill>
                          <a:latin typeface="Calibri"/>
                        </a:rPr>
                        <a:t>1.41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fdae5"/>
                    </a:solidFill>
                  </a:tcPr>
                </a:tc>
              </a:tr>
              <a:tr h="374400">
                <a:tc>
                  <a:txBody>
                    <a:bodyPr lIns="90000" rIns="90000" tIns="46800" bIns="46800"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Total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7.784</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9.123</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6.859</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c>
                  <a: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1400" spc="-1" strike="noStrike">
                          <a:solidFill>
                            <a:srgbClr val="000000"/>
                          </a:solidFill>
                          <a:latin typeface="Calibri"/>
                        </a:rPr>
                        <a:t>23.766</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df2"/>
                    </a:solidFill>
                  </a:tcPr>
                </a:tc>
              </a:tr>
            </a:tbl>
          </a:graphicData>
        </a:graphic>
      </p:graphicFrame>
      <p:sp>
        <p:nvSpPr>
          <p:cNvPr id="849" name="PlaceHolder 1"/>
          <p:cNvSpPr>
            <a:spLocks noGrp="1"/>
          </p:cNvSpPr>
          <p:nvPr>
            <p:ph type="title"/>
          </p:nvPr>
        </p:nvSpPr>
        <p:spPr>
          <a:xfrm>
            <a:off x="215640" y="227160"/>
            <a:ext cx="10861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70c0"/>
                </a:solidFill>
                <a:latin typeface="Arial Unicode MS"/>
              </a:rPr>
              <a:t>FORMAZIONE DISOCCUPATI. DATI DI ATTIVITÀ 2016-2018</a:t>
            </a:r>
            <a:endParaRPr b="0" lang="en-US" sz="4400" spc="-1" strike="noStrike">
              <a:solidFill>
                <a:srgbClr val="0070c0"/>
              </a:solidFill>
              <a:latin typeface="Arial Unicode MS"/>
            </a:endParaRPr>
          </a:p>
        </p:txBody>
      </p:sp>
      <p:sp>
        <p:nvSpPr>
          <p:cNvPr id="850" name="Segnaposto contenuto 2"/>
          <p:cNvSpPr/>
          <p:nvPr/>
        </p:nvSpPr>
        <p:spPr>
          <a:xfrm>
            <a:off x="9866160" y="5398920"/>
            <a:ext cx="2167200" cy="673200"/>
          </a:xfrm>
          <a:prstGeom prst="rect">
            <a:avLst/>
          </a:prstGeom>
          <a:noFill/>
          <a:ln w="0">
            <a:noFill/>
          </a:ln>
        </p:spPr>
        <p:style>
          <a:lnRef idx="0"/>
          <a:fillRef idx="0"/>
          <a:effectRef idx="0"/>
          <a:fontRef idx="minor"/>
        </p:style>
        <p:txBody>
          <a:bodyPr lIns="90000" rIns="90000" tIns="46800" bIns="46800" anchor="t">
            <a:noAutofit/>
          </a:bodyPr>
          <a:p>
            <a:pPr lvl="1">
              <a:lnSpc>
                <a:spcPct val="90000"/>
              </a:lnSpc>
              <a:spcBef>
                <a:spcPts val="150"/>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200" spc="-1" strike="noStrike">
                <a:solidFill>
                  <a:srgbClr val="000000"/>
                </a:solidFill>
                <a:latin typeface="Calibri"/>
                <a:ea typeface="Arial"/>
              </a:rPr>
              <a:t>*   Inclusi i tirocini all’estero</a:t>
            </a:r>
            <a:endParaRPr b="0" lang="en-US" sz="1200" spc="-1" strike="noStrike">
              <a:solidFill>
                <a:srgbClr val="000000"/>
              </a:solidFill>
              <a:latin typeface="Arial"/>
            </a:endParaRPr>
          </a:p>
          <a:p>
            <a:pPr lvl="1">
              <a:lnSpc>
                <a:spcPct val="90000"/>
              </a:lnSpc>
              <a:spcBef>
                <a:spcPts val="150"/>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200" spc="-1" strike="noStrike">
                <a:solidFill>
                  <a:srgbClr val="000000"/>
                </a:solidFill>
                <a:latin typeface="Calibri"/>
                <a:ea typeface="Arial"/>
              </a:rPr>
              <a:t>** Inclusi i tirocini di Garanzia Giovani - Percorso A</a:t>
            </a:r>
            <a:endParaRPr b="0" lang="en-US" sz="1200" spc="-1" strike="noStrike">
              <a:solidFill>
                <a:srgbClr val="000000"/>
              </a:solidFill>
              <a:latin typeface="Arial"/>
            </a:endParaRPr>
          </a:p>
          <a:p>
            <a:pPr lvl="1">
              <a:lnSpc>
                <a:spcPct val="90000"/>
              </a:lnSpc>
              <a:spcBef>
                <a:spcPts val="150"/>
              </a:spcBef>
              <a:spcAft>
                <a:spcPts val="300"/>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4T13:23:43Z</dcterms:created>
  <dc:creator>FGB1</dc:creator>
  <dc:description/>
  <dc:language>en-US</dc:language>
  <cp:lastModifiedBy>festi</cp:lastModifiedBy>
  <cp:lastPrinted>2018-11-15T10:05:01Z</cp:lastPrinted>
  <dcterms:modified xsi:type="dcterms:W3CDTF">2019-10-25T10:02:29Z</dcterms:modified>
  <cp:revision>37</cp:revision>
  <dc:subject/>
  <dc:title>Presentazione standard di PowerPoint</dc:title>
</cp:coreProperties>
</file>