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wmf" ContentType="image/x-wmf"/>
  <Override PartName="/ppt/media/image4.png" ContentType="image/png"/>
  <Override PartName="/ppt/media/image27.png" ContentType="image/png"/>
  <Override PartName="/ppt/media/image6.wmf" ContentType="image/x-wmf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wmf" ContentType="image/x-wmf"/>
  <Override PartName="/ppt/media/image10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5.png" ContentType="image/png"/>
  <Override PartName="/ppt/media/image3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1.wmf" ContentType="image/x-wmf"/>
  <Override PartName="/ppt/media/image2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6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Img"/>
          </p:nvPr>
        </p:nvSpPr>
        <p:spPr>
          <a:xfrm>
            <a:off x="711000" y="745920"/>
            <a:ext cx="53816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ftr" idx="1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sldNum" idx="18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D0B7B5-013B-4AB0-8A1B-CECED3ADD08C}" type="slidenum"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lalblb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CA3EC7-C5E0-4282-AB5F-6B6869500898}" type="slidenum">
              <a:rPr b="0" lang="fr-FR" sz="12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F8F14-99D7-4491-BC0A-28D37DBB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B491-D100-410C-8B40-B8BEB136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BE5DB-1C52-43F2-901A-9DA954F2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0881-9472-41AE-9972-F6480A0C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A265-D517-4B83-8B16-22948FF8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6F1A-A24C-4F7F-927E-8738DE7A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AB3A-EBD0-4E20-B456-616F9977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6A35-B806-4AE5-9AC7-090E6829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E8C7-CF6B-4643-B6BE-B70005AF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1C72-CCB9-4434-91FF-D821C4C2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455-A5D2-4041-A125-C07EBD61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7243-56AE-4A6A-829F-29F3C6F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D21F-9E6A-4731-B052-B15BA4DE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768C-E0DF-4905-9EC8-86CA24B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836C-E056-4E0B-BC5D-5F43C3C4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77FE-E07F-4C32-B032-A110B31E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08A1-E6AE-4A09-8E69-03CB062E3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A7AE0-706D-41E5-97FC-885ACB94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749E-439E-4970-B4A4-1EDA5A8E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38EA-CA35-4487-A314-AEFCA464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37B3B-CCC7-4173-894B-5FCDCA8D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E030-E19F-4CF2-B0C3-CF160254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BA9E-93B9-4902-B5E2-57DC32A0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F0DDD-8296-4E8E-8125-549E4859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E4A0-9FA0-43C4-AA8D-2EA4ECA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F9E2-A037-4F23-9387-0018D9C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3EB09-D257-4234-AC6D-35DC9A2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13E6B-EF4E-4900-AD0C-A16C051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A7A68-C511-4477-B4CF-15DE3D09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3A6C4-A4AE-47FB-B612-027E13B3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C903-54F5-4FD5-A26C-6BDCF862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3A4B-1B84-401F-9135-38E7BA72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229F-F660-4A6E-BA1C-92B47CAC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3F4F-040C-4405-BCA4-2F916274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FB140-A53B-4E04-BFF2-C3CEA6FA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48979-3756-4012-9E18-A047A37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78483-C6CD-4AB4-812F-A135565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3149-B8D1-4E93-B024-34F2A7C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0A2A7-3112-4FC5-B6E5-B3C08DB6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92F79-3804-4B25-8D4C-5E918300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CEDA6-C040-4F5C-80D4-546D4ADA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1877-47B2-4A63-AE25-3B083287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0631E-2E3A-44A3-A815-00454B2B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EDAA-4D89-4CE8-B240-030644A2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2381-07AD-4DB0-8C19-005F646A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D515-33BC-49EA-A8C1-93A851BD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7BA95-10A4-4D69-91A2-9680901A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ECF40-18DA-41D5-BBBB-3A1C31D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A3D83-AA74-47CA-BB81-9385A359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1A152-E420-4B5B-9389-4C6E7DE3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04E1C-B2A6-4096-83CC-F1BC6D1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9F126-E439-4007-8938-18626EF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8E7DD-3632-4809-9693-DD39008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F128-665E-46EC-A122-A0DC8236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52140-DDE2-4A6C-B399-11BE159BC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CC71-DC44-4C5F-9F17-5851A4D2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5F96A-2EEA-4C94-AFCF-4F56E82D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B82BD-73F4-49DF-9120-62B0FBD5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6763-E78D-432D-8667-24C5D299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95D2-BAA7-4FA5-994B-1AABC8E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1200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" name="Working Draft Text" hidden="1"/>
          <p:cNvSpPr/>
          <p:nvPr/>
        </p:nvSpPr>
        <p:spPr>
          <a:xfrm>
            <a:off x="2925000" y="349200"/>
            <a:ext cx="109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ORKING DRAFT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Working Draft" hidden="1"/>
          <p:cNvSpPr/>
          <p:nvPr/>
        </p:nvSpPr>
        <p:spPr>
          <a:xfrm>
            <a:off x="2932560" y="507960"/>
            <a:ext cx="320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rinted" hidden="1"/>
          <p:cNvSpPr/>
          <p:nvPr/>
        </p:nvSpPr>
        <p:spPr>
          <a:xfrm>
            <a:off x="2919240" y="66816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" name="McK Title Elements"/>
          <p:cNvGrpSpPr/>
          <p:nvPr/>
        </p:nvGrpSpPr>
        <p:grpSpPr>
          <a:xfrm>
            <a:off x="0" y="0"/>
            <a:ext cx="8478360" cy="6859080"/>
            <a:chOff x="0" y="0"/>
            <a:chExt cx="8478360" cy="6859080"/>
          </a:xfrm>
        </p:grpSpPr>
        <p:sp>
          <p:nvSpPr>
            <p:cNvPr id="5" name="McK Document type" hidden="1"/>
            <p:cNvSpPr/>
            <p:nvPr/>
          </p:nvSpPr>
          <p:spPr>
            <a:xfrm>
              <a:off x="2917800" y="5022000"/>
              <a:ext cx="545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ype de document</a:t>
              </a:r>
              <a:endParaRPr b="0" lang="en-US" sz="15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McK Date" hidden="1"/>
            <p:cNvSpPr/>
            <p:nvPr/>
          </p:nvSpPr>
          <p:spPr>
            <a:xfrm>
              <a:off x="2917800" y="5304600"/>
              <a:ext cx="545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Date</a:t>
              </a:r>
              <a:endParaRPr b="0" lang="en-US" sz="15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McK Disclaimer" hidden="1"/>
            <p:cNvSpPr/>
            <p:nvPr/>
          </p:nvSpPr>
          <p:spPr>
            <a:xfrm>
              <a:off x="2917800" y="5961240"/>
              <a:ext cx="55605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CONFIDENTIEL ET PROPRIÉTÉ DE McKINSEY &amp; COMPANY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60400"/>
                  <a:tab algn="l" pos="1720800"/>
                  <a:tab algn="l" pos="2581200"/>
                  <a:tab algn="l" pos="3441600"/>
                  <a:tab algn="l" pos="4302000"/>
                  <a:tab algn="l" pos="5162400"/>
                  <a:tab algn="l" pos="6022800"/>
                  <a:tab algn="l" pos="6883560"/>
                  <a:tab algn="l" pos="7743960"/>
                  <a:tab algn="l" pos="8604360"/>
                  <a:tab algn="l" pos="9464760"/>
                  <a:tab algn="l" pos="1032516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oute utilisation de ce support, ainsi que de son contenu, sans autorisation expresse de McKinsey &amp; Company est strictement interdite</a:t>
              </a:r>
              <a:endParaRPr b="0" lang="en-US" sz="9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TitleBottomPlaceholder" hidden="1"/>
            <p:cNvSpPr/>
            <p:nvPr/>
          </p:nvSpPr>
          <p:spPr>
            <a:xfrm>
              <a:off x="0" y="2283840"/>
              <a:ext cx="2424600" cy="4575240"/>
            </a:xfrm>
            <a:prstGeom prst="rect">
              <a:avLst/>
            </a:prstGeom>
            <a:solidFill>
              <a:srgbClr val="006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560" rIns="97560" tIns="48960" bIns="48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" name="TitleTopPlaceholder" hidden="1"/>
            <p:cNvSpPr/>
            <p:nvPr/>
          </p:nvSpPr>
          <p:spPr>
            <a:xfrm>
              <a:off x="0" y="0"/>
              <a:ext cx="2424600" cy="2283840"/>
            </a:xfrm>
            <a:prstGeom prst="rect">
              <a:avLst/>
            </a:prstGeom>
            <a:solidFill>
              <a:srgbClr val="91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560" rIns="97560" tIns="48960" bIns="48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10" name="TitleBottomBarBW" descr=""/>
          <p:cNvPicPr/>
          <p:nvPr/>
        </p:nvPicPr>
        <p:blipFill>
          <a:blip r:embed="rId3"/>
          <a:stretch/>
        </p:blipFill>
        <p:spPr>
          <a:xfrm>
            <a:off x="7929720" y="6573960"/>
            <a:ext cx="1809720" cy="196560"/>
          </a:xfrm>
          <a:prstGeom prst="rect">
            <a:avLst/>
          </a:prstGeom>
          <a:ln w="0">
            <a:noFill/>
          </a:ln>
        </p:spPr>
      </p:pic>
      <p:sp>
        <p:nvSpPr>
          <p:cNvPr id="11" name="doc id"/>
          <p:cNvSpPr/>
          <p:nvPr/>
        </p:nvSpPr>
        <p:spPr>
          <a:xfrm>
            <a:off x="9333000" y="36360"/>
            <a:ext cx="325440" cy="1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" name="Picture 7" descr=""/>
          <p:cNvPicPr/>
          <p:nvPr/>
        </p:nvPicPr>
        <p:blipFill>
          <a:blip r:embed="rId4"/>
          <a:stretch/>
        </p:blipFill>
        <p:spPr>
          <a:xfrm>
            <a:off x="6105600" y="3125880"/>
            <a:ext cx="3227400" cy="332748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fr-FR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4F18A817-607D-4CAE-A066-ED50F7A247D8}" type="slidenum">
              <a:rPr b="1" lang="fr-FR" sz="15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en-US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01CEDFD-7C7B-46DD-B2AF-1FAE595922D6}" type="datetime"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1" lang="fr-FR" sz="15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  <a:ea typeface="Arial"/>
              </a:rPr>
              <a:t>ODS SEE région PA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" name="Image 3" descr="ID VIsu plat.png"/>
          <p:cNvPicPr/>
          <p:nvPr/>
        </p:nvPicPr>
        <p:blipFill>
          <a:blip r:embed="rId5"/>
          <a:stretch/>
        </p:blipFill>
        <p:spPr>
          <a:xfrm rot="21207600">
            <a:off x="272520" y="754200"/>
            <a:ext cx="8209080" cy="431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321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56" name="McK 1. On-page tracker" hidden="1"/>
          <p:cNvSpPr/>
          <p:nvPr/>
        </p:nvSpPr>
        <p:spPr>
          <a:xfrm>
            <a:off x="138240" y="2700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RACKE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McK 3. Unit of measure" hidden="1"/>
          <p:cNvSpPr/>
          <p:nvPr/>
        </p:nvSpPr>
        <p:spPr>
          <a:xfrm>
            <a:off x="131760" y="542880"/>
            <a:ext cx="404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Unit of measur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8" name="McK Slide Elements"/>
          <p:cNvGrpSpPr/>
          <p:nvPr/>
        </p:nvGrpSpPr>
        <p:grpSpPr>
          <a:xfrm>
            <a:off x="131760" y="6191640"/>
            <a:ext cx="9450000" cy="536400"/>
            <a:chOff x="131760" y="6191640"/>
            <a:chExt cx="9450000" cy="536400"/>
          </a:xfrm>
        </p:grpSpPr>
        <p:sp>
          <p:nvSpPr>
            <p:cNvPr id="59" name="McK 4. Footnote" hidden="1"/>
            <p:cNvSpPr/>
            <p:nvPr/>
          </p:nvSpPr>
          <p:spPr>
            <a:xfrm>
              <a:off x="131760" y="6191640"/>
              <a:ext cx="945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1 Note de bas de pag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McK 5. Source" hidden="1"/>
            <p:cNvSpPr/>
            <p:nvPr/>
          </p:nvSpPr>
          <p:spPr>
            <a:xfrm>
              <a:off x="131760" y="6560280"/>
              <a:ext cx="75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96960" indent="-696960">
                <a:lnSpc>
                  <a:spcPct val="100000"/>
                </a:lnSpc>
                <a:tabLst>
                  <a:tab algn="l" pos="0"/>
                  <a:tab algn="l" pos="69696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OURCE : Nom de la sourc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1" name="ACET"/>
          <p:cNvGrpSpPr/>
          <p:nvPr/>
        </p:nvGrpSpPr>
        <p:grpSpPr>
          <a:xfrm>
            <a:off x="1604880" y="1130040"/>
            <a:ext cx="4714920" cy="538560"/>
            <a:chOff x="1604880" y="1130040"/>
            <a:chExt cx="4714920" cy="538560"/>
          </a:xfrm>
        </p:grpSpPr>
        <p:cxnSp>
          <p:nvCxnSpPr>
            <p:cNvPr id="62" name="AutoShape 249"/>
            <p:cNvCxnSpPr/>
            <p:nvPr/>
          </p:nvCxnSpPr>
          <p:spPr>
            <a:xfrm>
              <a:off x="1604880" y="1667880"/>
              <a:ext cx="471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3" name="AutoShape 250" hidden="1"/>
            <p:cNvSpPr/>
            <p:nvPr/>
          </p:nvSpPr>
          <p:spPr>
            <a:xfrm>
              <a:off x="1604880" y="1130040"/>
              <a:ext cx="4714560" cy="53820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944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it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700" spc="-1" strike="noStrike">
                  <a:solidFill>
                    <a:srgbClr val="808080"/>
                  </a:solidFill>
                  <a:latin typeface="Arial"/>
                  <a:ea typeface="ヒラギノ角ゴ Pro W3"/>
                </a:rPr>
                <a:t>Unit of measu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4" name="Working Draft" hidden="1"/>
          <p:cNvSpPr/>
          <p:nvPr/>
        </p:nvSpPr>
        <p:spPr>
          <a:xfrm rot="5400000">
            <a:off x="8853480" y="2794680"/>
            <a:ext cx="194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rinted" hidden="1"/>
          <p:cNvSpPr/>
          <p:nvPr/>
        </p:nvSpPr>
        <p:spPr>
          <a:xfrm rot="5400000">
            <a:off x="9343440" y="4326840"/>
            <a:ext cx="96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 05/10/2012 16:42:31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3"/>
          <a:stretch/>
        </p:blipFill>
        <p:spPr>
          <a:xfrm>
            <a:off x="2087640" y="343080"/>
            <a:ext cx="7697880" cy="77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504360" y="6485040"/>
            <a:ext cx="235908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B2C7DC39-1D01-4B59-B246-980D15E8B3E2}" type="datetime">
              <a:rPr b="0" lang="en-US" sz="13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452400" y="6485040"/>
            <a:ext cx="320220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fr-FR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Calibri"/>
                <a:ea typeface="Arial"/>
              </a:rPr>
              <a:t>ODS SEE région PA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243920" y="6485040"/>
            <a:ext cx="2358720" cy="3729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8960" bIns="48960" anchor="ctr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0AD2FA5A-47C9-47F2-9C84-7A5AC32955D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72" name="Image 7" descr="logo_poleemploi2015_projet.png"/>
          <p:cNvPicPr/>
          <p:nvPr/>
        </p:nvPicPr>
        <p:blipFill>
          <a:blip r:embed="rId4"/>
          <a:stretch/>
        </p:blipFill>
        <p:spPr>
          <a:xfrm>
            <a:off x="98280" y="73080"/>
            <a:ext cx="2065320" cy="95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41C4-3B12-476D-A42B-8BDE1D6A7B6E}" type="datetime">
              <a:rPr b="0" lang="en-US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ODS SEE région PA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34D-5E9D-4EAE-BEC7-23AB8CF4A8E9}" type="slidenum">
              <a:rPr b="0" lang="fr-FR" sz="1400" spc="-1" strike="noStrike">
                <a:solidFill>
                  <a:srgbClr val="596b0a"/>
                </a:solidFill>
                <a:latin typeface="Arial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73600" y="44280"/>
            <a:ext cx="1871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Version de trava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321" descr=""/>
          <p:cNvPicPr/>
          <p:nvPr/>
        </p:nvPicPr>
        <p:blipFill>
          <a:blip r:embed="rId2"/>
          <a:stretch/>
        </p:blipFill>
        <p:spPr>
          <a:xfrm>
            <a:off x="6480" y="0"/>
            <a:ext cx="161640" cy="162000"/>
          </a:xfrm>
          <a:prstGeom prst="rect">
            <a:avLst/>
          </a:prstGeom>
          <a:ln w="0">
            <a:noFill/>
          </a:ln>
        </p:spPr>
      </p:pic>
      <p:sp>
        <p:nvSpPr>
          <p:cNvPr id="152" name="McK 1. On-page tracker" hidden="1"/>
          <p:cNvSpPr/>
          <p:nvPr/>
        </p:nvSpPr>
        <p:spPr>
          <a:xfrm>
            <a:off x="138240" y="2700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TRACKER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McK 3. Unit of measure" hidden="1"/>
          <p:cNvSpPr/>
          <p:nvPr/>
        </p:nvSpPr>
        <p:spPr>
          <a:xfrm>
            <a:off x="131760" y="542880"/>
            <a:ext cx="404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500" spc="-1" strike="noStrike">
                <a:solidFill>
                  <a:srgbClr val="808080"/>
                </a:solidFill>
                <a:latin typeface="Arial"/>
                <a:ea typeface="ヒラギノ角ゴ Pro W3"/>
              </a:rPr>
              <a:t>Unit of measur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54" name="McK Slide Elements"/>
          <p:cNvGrpSpPr/>
          <p:nvPr/>
        </p:nvGrpSpPr>
        <p:grpSpPr>
          <a:xfrm>
            <a:off x="131760" y="6191640"/>
            <a:ext cx="9450000" cy="536400"/>
            <a:chOff x="131760" y="6191640"/>
            <a:chExt cx="9450000" cy="536400"/>
          </a:xfrm>
        </p:grpSpPr>
        <p:sp>
          <p:nvSpPr>
            <p:cNvPr id="155" name="McK 4. Footnote" hidden="1"/>
            <p:cNvSpPr/>
            <p:nvPr/>
          </p:nvSpPr>
          <p:spPr>
            <a:xfrm>
              <a:off x="131760" y="6191640"/>
              <a:ext cx="945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12680" indent="-11268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1 Note de bas de pag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6" name="McK 5. Source" hidden="1"/>
            <p:cNvSpPr/>
            <p:nvPr/>
          </p:nvSpPr>
          <p:spPr>
            <a:xfrm>
              <a:off x="131760" y="6560280"/>
              <a:ext cx="758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696960" indent="-696960">
                <a:lnSpc>
                  <a:spcPct val="100000"/>
                </a:lnSpc>
                <a:tabLst>
                  <a:tab algn="l" pos="0"/>
                  <a:tab algn="l" pos="69696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OURCE : Nom de la source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57" name="ACET"/>
          <p:cNvGrpSpPr/>
          <p:nvPr/>
        </p:nvGrpSpPr>
        <p:grpSpPr>
          <a:xfrm>
            <a:off x="1604880" y="1130040"/>
            <a:ext cx="4714920" cy="538560"/>
            <a:chOff x="1604880" y="1130040"/>
            <a:chExt cx="4714920" cy="538560"/>
          </a:xfrm>
        </p:grpSpPr>
        <p:cxnSp>
          <p:nvCxnSpPr>
            <p:cNvPr id="158" name="AutoShape 249"/>
            <p:cNvCxnSpPr/>
            <p:nvPr/>
          </p:nvCxnSpPr>
          <p:spPr>
            <a:xfrm>
              <a:off x="1604880" y="1667880"/>
              <a:ext cx="471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9" name="AutoShape 250" hidden="1"/>
            <p:cNvSpPr/>
            <p:nvPr/>
          </p:nvSpPr>
          <p:spPr>
            <a:xfrm>
              <a:off x="1604880" y="1130040"/>
              <a:ext cx="4714560" cy="538200"/>
            </a:xfrm>
            <a:prstGeom prst="leftRightArrow">
              <a:avLst>
                <a:gd name="adj1" fmla="val 100000"/>
                <a:gd name="adj2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1944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Tit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fr-FR" sz="1700" spc="-1" strike="noStrike">
                  <a:solidFill>
                    <a:srgbClr val="808080"/>
                  </a:solidFill>
                  <a:latin typeface="Arial"/>
                  <a:ea typeface="ヒラギノ角ゴ Pro W3"/>
                </a:rPr>
                <a:t>Unit of measure</a:t>
              </a: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60" name="Working Draft" hidden="1"/>
          <p:cNvSpPr/>
          <p:nvPr/>
        </p:nvSpPr>
        <p:spPr>
          <a:xfrm rot="5400000">
            <a:off x="8853480" y="2794680"/>
            <a:ext cx="1948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ast Modified 12/10/2012 17:02 Romance Standard Time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rinted" hidden="1"/>
          <p:cNvSpPr/>
          <p:nvPr/>
        </p:nvSpPr>
        <p:spPr>
          <a:xfrm rot="5400000">
            <a:off x="9343440" y="4326840"/>
            <a:ext cx="968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Printed 05/10/2012 16:42:31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1604880" y="1990800"/>
            <a:ext cx="4756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49120" indent="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249120" indent="-249120">
              <a:buClr>
                <a:srgbClr val="1f497d"/>
              </a:buClr>
              <a:buSzPct val="125000"/>
              <a:buFont typeface="Arial"/>
              <a:buChar char="▪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249120" indent="-249120">
              <a:buClr>
                <a:srgbClr val="1f497d"/>
              </a:buClr>
              <a:buSzPct val="120000"/>
              <a:buFont typeface="Arial"/>
              <a:buChar char="–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249120" indent="-249120">
              <a:buClr>
                <a:srgbClr val="1f497d"/>
              </a:buClr>
              <a:buSzPct val="120000"/>
              <a:buFont typeface="Arial"/>
              <a:buChar char="▫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49120" indent="-249120">
              <a:buClr>
                <a:srgbClr val="1f497d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5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6" marL="249120" indent="-249120">
              <a:buClr>
                <a:srgbClr val="000000"/>
              </a:buClr>
              <a:buSzPct val="89000"/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2087640" y="343080"/>
            <a:ext cx="7697880" cy="777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 type="dt" idx="10"/>
          </p:nvPr>
        </p:nvSpPr>
        <p:spPr>
          <a:xfrm>
            <a:off x="504360" y="6485040"/>
            <a:ext cx="235908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F57A5918-D9EC-4242-9830-8D7E2847150F}" type="datetime">
              <a:rPr b="0" lang="en-US" sz="13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1"/>
          </p:nvPr>
        </p:nvSpPr>
        <p:spPr>
          <a:xfrm>
            <a:off x="3452400" y="6485040"/>
            <a:ext cx="320220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fr-FR" sz="13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fr-FR" sz="1300" spc="-1" strike="noStrike">
                <a:solidFill>
                  <a:srgbClr val="898989"/>
                </a:solidFill>
                <a:latin typeface="Calibri"/>
                <a:ea typeface="Arial"/>
              </a:rPr>
              <a:t>ODS SEE région PA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2"/>
          </p:nvPr>
        </p:nvSpPr>
        <p:spPr>
          <a:xfrm>
            <a:off x="7243920" y="6485040"/>
            <a:ext cx="2358720" cy="372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  <a:defRPr b="0" lang="en-US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CC83D6B5-8CC9-4E51-ADA1-CCA41FF3997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title"/>
          </p:nvPr>
        </p:nvSpPr>
        <p:spPr>
          <a:xfrm>
            <a:off x="2406600" y="558720"/>
            <a:ext cx="7243920" cy="2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7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17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68" name="Image 7" descr="logo_poleemploi2015_projet.png"/>
          <p:cNvPicPr/>
          <p:nvPr/>
        </p:nvPicPr>
        <p:blipFill>
          <a:blip r:embed="rId4"/>
          <a:stretch/>
        </p:blipFill>
        <p:spPr>
          <a:xfrm>
            <a:off x="98280" y="73080"/>
            <a:ext cx="2065320" cy="954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0"/>
          <p:cNvSpPr/>
          <p:nvPr/>
        </p:nvSpPr>
        <p:spPr>
          <a:xfrm>
            <a:off x="3873600" y="44280"/>
            <a:ext cx="1871640" cy="21600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Version de travai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9854-96AD-4311-8005-279A2FEA5B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DS SEE région PA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F60-4272-41FD-AF15-0B35C332B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8"/>
          <p:cNvGrpSpPr/>
          <p:nvPr/>
        </p:nvGrpSpPr>
        <p:grpSpPr>
          <a:xfrm>
            <a:off x="3054240" y="412920"/>
            <a:ext cx="6535800" cy="906120"/>
            <a:chOff x="3054240" y="412920"/>
            <a:chExt cx="6535800" cy="906120"/>
          </a:xfrm>
        </p:grpSpPr>
        <p:sp>
          <p:nvSpPr>
            <p:cNvPr id="210" name="AutoShape 7"/>
            <p:cNvSpPr/>
            <p:nvPr/>
          </p:nvSpPr>
          <p:spPr>
            <a:xfrm>
              <a:off x="3054240" y="412920"/>
              <a:ext cx="6535800" cy="90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Freeform 9"/>
            <p:cNvSpPr/>
            <p:nvPr/>
          </p:nvSpPr>
          <p:spPr>
            <a:xfrm>
              <a:off x="3054240" y="412920"/>
              <a:ext cx="6535800" cy="906120"/>
            </a:xfrm>
            <a:custGeom>
              <a:avLst/>
              <a:gdLst/>
              <a:ahLst/>
              <a:rect l="l" t="t" r="r" b="b"/>
              <a:pathLst>
                <a:path w="4117" h="571">
                  <a:moveTo>
                    <a:pt x="304" y="0"/>
                  </a:moveTo>
                  <a:lnTo>
                    <a:pt x="304" y="0"/>
                  </a:lnTo>
                  <a:lnTo>
                    <a:pt x="291" y="0"/>
                  </a:lnTo>
                  <a:lnTo>
                    <a:pt x="256" y="4"/>
                  </a:lnTo>
                  <a:lnTo>
                    <a:pt x="234" y="8"/>
                  </a:lnTo>
                  <a:lnTo>
                    <a:pt x="208" y="14"/>
                  </a:lnTo>
                  <a:lnTo>
                    <a:pt x="180" y="24"/>
                  </a:lnTo>
                  <a:lnTo>
                    <a:pt x="152" y="34"/>
                  </a:lnTo>
                  <a:lnTo>
                    <a:pt x="124" y="50"/>
                  </a:lnTo>
                  <a:lnTo>
                    <a:pt x="98" y="68"/>
                  </a:lnTo>
                  <a:lnTo>
                    <a:pt x="72" y="90"/>
                  </a:lnTo>
                  <a:lnTo>
                    <a:pt x="59" y="105"/>
                  </a:lnTo>
                  <a:lnTo>
                    <a:pt x="48" y="119"/>
                  </a:lnTo>
                  <a:lnTo>
                    <a:pt x="37" y="135"/>
                  </a:lnTo>
                  <a:lnTo>
                    <a:pt x="28" y="151"/>
                  </a:lnTo>
                  <a:lnTo>
                    <a:pt x="20" y="169"/>
                  </a:lnTo>
                  <a:lnTo>
                    <a:pt x="13" y="189"/>
                  </a:lnTo>
                  <a:lnTo>
                    <a:pt x="9" y="209"/>
                  </a:lnTo>
                  <a:lnTo>
                    <a:pt x="4" y="231"/>
                  </a:lnTo>
                  <a:lnTo>
                    <a:pt x="2" y="255"/>
                  </a:lnTo>
                  <a:lnTo>
                    <a:pt x="0" y="281"/>
                  </a:lnTo>
                  <a:lnTo>
                    <a:pt x="0" y="290"/>
                  </a:lnTo>
                  <a:lnTo>
                    <a:pt x="2" y="302"/>
                  </a:lnTo>
                  <a:lnTo>
                    <a:pt x="4" y="334"/>
                  </a:lnTo>
                  <a:lnTo>
                    <a:pt x="11" y="354"/>
                  </a:lnTo>
                  <a:lnTo>
                    <a:pt x="17" y="378"/>
                  </a:lnTo>
                  <a:lnTo>
                    <a:pt x="26" y="404"/>
                  </a:lnTo>
                  <a:lnTo>
                    <a:pt x="39" y="430"/>
                  </a:lnTo>
                  <a:lnTo>
                    <a:pt x="54" y="456"/>
                  </a:lnTo>
                  <a:lnTo>
                    <a:pt x="74" y="481"/>
                  </a:lnTo>
                  <a:lnTo>
                    <a:pt x="100" y="505"/>
                  </a:lnTo>
                  <a:lnTo>
                    <a:pt x="113" y="517"/>
                  </a:lnTo>
                  <a:lnTo>
                    <a:pt x="128" y="527"/>
                  </a:lnTo>
                  <a:lnTo>
                    <a:pt x="145" y="537"/>
                  </a:lnTo>
                  <a:lnTo>
                    <a:pt x="163" y="545"/>
                  </a:lnTo>
                  <a:lnTo>
                    <a:pt x="182" y="553"/>
                  </a:lnTo>
                  <a:lnTo>
                    <a:pt x="204" y="559"/>
                  </a:lnTo>
                  <a:lnTo>
                    <a:pt x="226" y="563"/>
                  </a:lnTo>
                  <a:lnTo>
                    <a:pt x="252" y="567"/>
                  </a:lnTo>
                  <a:lnTo>
                    <a:pt x="278" y="569"/>
                  </a:lnTo>
                  <a:lnTo>
                    <a:pt x="304" y="571"/>
                  </a:lnTo>
                  <a:lnTo>
                    <a:pt x="3813" y="571"/>
                  </a:lnTo>
                  <a:lnTo>
                    <a:pt x="3826" y="569"/>
                  </a:lnTo>
                  <a:lnTo>
                    <a:pt x="3859" y="567"/>
                  </a:lnTo>
                  <a:lnTo>
                    <a:pt x="3883" y="561"/>
                  </a:lnTo>
                  <a:lnTo>
                    <a:pt x="3909" y="555"/>
                  </a:lnTo>
                  <a:lnTo>
                    <a:pt x="3937" y="547"/>
                  </a:lnTo>
                  <a:lnTo>
                    <a:pt x="3965" y="535"/>
                  </a:lnTo>
                  <a:lnTo>
                    <a:pt x="3993" y="521"/>
                  </a:lnTo>
                  <a:lnTo>
                    <a:pt x="4019" y="503"/>
                  </a:lnTo>
                  <a:lnTo>
                    <a:pt x="4045" y="479"/>
                  </a:lnTo>
                  <a:lnTo>
                    <a:pt x="4058" y="466"/>
                  </a:lnTo>
                  <a:lnTo>
                    <a:pt x="4069" y="452"/>
                  </a:lnTo>
                  <a:lnTo>
                    <a:pt x="4078" y="436"/>
                  </a:lnTo>
                  <a:lnTo>
                    <a:pt x="4089" y="420"/>
                  </a:lnTo>
                  <a:lnTo>
                    <a:pt x="4095" y="402"/>
                  </a:lnTo>
                  <a:lnTo>
                    <a:pt x="4104" y="382"/>
                  </a:lnTo>
                  <a:lnTo>
                    <a:pt x="4108" y="362"/>
                  </a:lnTo>
                  <a:lnTo>
                    <a:pt x="4113" y="338"/>
                  </a:lnTo>
                  <a:lnTo>
                    <a:pt x="4115" y="314"/>
                  </a:lnTo>
                  <a:lnTo>
                    <a:pt x="4117" y="290"/>
                  </a:lnTo>
                  <a:lnTo>
                    <a:pt x="4117" y="281"/>
                  </a:lnTo>
                  <a:lnTo>
                    <a:pt x="4115" y="269"/>
                  </a:lnTo>
                  <a:lnTo>
                    <a:pt x="4110" y="237"/>
                  </a:lnTo>
                  <a:lnTo>
                    <a:pt x="4106" y="215"/>
                  </a:lnTo>
                  <a:lnTo>
                    <a:pt x="4100" y="193"/>
                  </a:lnTo>
                  <a:lnTo>
                    <a:pt x="4091" y="167"/>
                  </a:lnTo>
                  <a:lnTo>
                    <a:pt x="4078" y="141"/>
                  </a:lnTo>
                  <a:lnTo>
                    <a:pt x="4063" y="115"/>
                  </a:lnTo>
                  <a:lnTo>
                    <a:pt x="4041" y="88"/>
                  </a:lnTo>
                  <a:lnTo>
                    <a:pt x="4017" y="64"/>
                  </a:lnTo>
                  <a:lnTo>
                    <a:pt x="4004" y="54"/>
                  </a:lnTo>
                  <a:lnTo>
                    <a:pt x="3989" y="44"/>
                  </a:lnTo>
                  <a:lnTo>
                    <a:pt x="3972" y="34"/>
                  </a:lnTo>
                  <a:lnTo>
                    <a:pt x="3954" y="26"/>
                  </a:lnTo>
                  <a:lnTo>
                    <a:pt x="3935" y="18"/>
                  </a:lnTo>
                  <a:lnTo>
                    <a:pt x="3913" y="12"/>
                  </a:lnTo>
                  <a:lnTo>
                    <a:pt x="3889" y="6"/>
                  </a:lnTo>
                  <a:lnTo>
                    <a:pt x="3865" y="2"/>
                  </a:lnTo>
                  <a:lnTo>
                    <a:pt x="3839" y="0"/>
                  </a:lnTo>
                  <a:lnTo>
                    <a:pt x="3813" y="0"/>
                  </a:lnTo>
                  <a:lnTo>
                    <a:pt x="304" y="0"/>
                  </a:lnTo>
                  <a:close/>
                </a:path>
              </a:pathLst>
            </a:cu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pic>
        <p:nvPicPr>
          <p:cNvPr id="212" name="Image 3" descr="ID VIsu plat.png"/>
          <p:cNvPicPr/>
          <p:nvPr/>
        </p:nvPicPr>
        <p:blipFill>
          <a:blip r:embed="rId2"/>
          <a:stretch/>
        </p:blipFill>
        <p:spPr>
          <a:xfrm rot="21207600">
            <a:off x="237960" y="344520"/>
            <a:ext cx="2373480" cy="1027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744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2" descr=""/>
          <p:cNvPicPr/>
          <p:nvPr/>
        </p:nvPicPr>
        <p:blipFill>
          <a:blip r:embed="rId2"/>
          <a:srcRect l="0" t="0" r="1394" b="0"/>
          <a:stretch/>
        </p:blipFill>
        <p:spPr>
          <a:xfrm>
            <a:off x="169920" y="152280"/>
            <a:ext cx="9624960" cy="65754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D:\Documents N CABRIDAIN\95 - Templates\PNG\Logos\Entreprises\pole_emploi_256_ppt.png"/>
          <p:cNvPicPr/>
          <p:nvPr/>
        </p:nvPicPr>
        <p:blipFill>
          <a:blip r:embed="rId3"/>
          <a:stretch/>
        </p:blipFill>
        <p:spPr>
          <a:xfrm>
            <a:off x="8362800" y="1332000"/>
            <a:ext cx="1306800" cy="10857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7440" y="3049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4160" y="6091200"/>
            <a:ext cx="5724360" cy="6112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700" spc="-1" strike="noStrike">
                <a:solidFill>
                  <a:srgbClr val="333333"/>
                </a:solidFill>
                <a:latin typeface="Calibri"/>
              </a:rPr>
              <a:t>	</a:t>
            </a:r>
            <a:br>
              <a:rPr sz="1700"/>
            </a:br>
            <a:r>
              <a:rPr b="1" lang="fr-FR" sz="1800" spc="-1" strike="noStrike">
                <a:solidFill>
                  <a:srgbClr val="800080"/>
                </a:solidFill>
                <a:latin typeface="Calibri"/>
                <a:ea typeface="ヒラギノ角ゴ Pro W3"/>
              </a:rPr>
              <a:t>Vendredi 6 Septembre 2019</a:t>
            </a:r>
            <a:endParaRPr b="1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5" name="Rectangle 54"/>
          <p:cNvSpPr/>
          <p:nvPr/>
        </p:nvSpPr>
        <p:spPr>
          <a:xfrm>
            <a:off x="6321600" y="3984480"/>
            <a:ext cx="2952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tatistiq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MS PGothic"/>
              </a:rPr>
              <a:t>Etudes et Evalu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Espace réservé du numéro de diapositive 1"/>
          <p:cNvSpPr/>
          <p:nvPr/>
        </p:nvSpPr>
        <p:spPr>
          <a:xfrm>
            <a:off x="7473960" y="638172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960" bIns="489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fld id="{A1E8492E-F540-42D0-ACEC-88C0FD2AF8FB}" type="slidenum">
              <a:rPr b="1" lang="fr-FR" sz="15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Picture 6" descr=""/>
          <p:cNvPicPr/>
          <p:nvPr/>
        </p:nvPicPr>
        <p:blipFill>
          <a:blip r:embed="rId1"/>
          <a:srcRect l="11250" t="25478" r="11989" b="16113"/>
          <a:stretch/>
        </p:blipFill>
        <p:spPr>
          <a:xfrm rot="1996200">
            <a:off x="4028760" y="4849920"/>
            <a:ext cx="1569960" cy="95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2"/>
          <a:srcRect l="29641" t="7545" r="27820" b="16716"/>
          <a:stretch/>
        </p:blipFill>
        <p:spPr>
          <a:xfrm>
            <a:off x="4645080" y="3475080"/>
            <a:ext cx="977760" cy="1390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8" descr=""/>
          <p:cNvPicPr/>
          <p:nvPr/>
        </p:nvPicPr>
        <p:blipFill>
          <a:blip r:embed="rId3"/>
          <a:srcRect l="2103" t="4244" r="5971" b="5016"/>
          <a:stretch/>
        </p:blipFill>
        <p:spPr>
          <a:xfrm rot="20292600">
            <a:off x="3798720" y="3881160"/>
            <a:ext cx="1181160" cy="9334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9" descr=""/>
          <p:cNvPicPr/>
          <p:nvPr/>
        </p:nvPicPr>
        <p:blipFill>
          <a:blip r:embed="rId4"/>
          <a:srcRect l="29759" t="14772" r="27933" b="9559"/>
          <a:stretch/>
        </p:blipFill>
        <p:spPr>
          <a:xfrm rot="1305600">
            <a:off x="5122440" y="3615840"/>
            <a:ext cx="1231920" cy="1764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Afficher l'image d'origine"/>
          <p:cNvPicPr/>
          <p:nvPr/>
        </p:nvPicPr>
        <p:blipFill>
          <a:blip r:embed="rId5"/>
          <a:stretch/>
        </p:blipFill>
        <p:spPr>
          <a:xfrm>
            <a:off x="344520" y="5499000"/>
            <a:ext cx="115416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28520" y="331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QUELQUES DONNÉES SUR LES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BENEFICIAIRES DE FORMATION EN RÉ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-1440" y="1730520"/>
            <a:ext cx="9907560" cy="4929120"/>
          </a:xfrm>
          <a:prstGeom prst="rect">
            <a:avLst/>
          </a:prstGeom>
          <a:ln w="0">
            <a:noFill/>
          </a:ln>
        </p:spPr>
      </p:pic>
      <p:sp>
        <p:nvSpPr>
          <p:cNvPr id="400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28520" y="404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bénéficiaires de formation en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rovence-Alpes-Côte d’Az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 u="sng">
                <a:solidFill>
                  <a:srgbClr val="d28e8c"/>
                </a:solidFill>
                <a:uFillTx/>
                <a:latin typeface="Calibri"/>
              </a:rPr>
              <a:t>La formation, un levier pour lutter contre le chô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niveau de formation, critère déterminant dans la durée d’inscription au chômage. Plus d’un demandeur d’emploi de longue durée sur deux (6/10) n’a aucune qualification (aucun diplôme). Alors que cela représente environ un demandeur d’emploi inscrit fin de mois sur cinq. (données mars 201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57 240 demandeurs d’emploi en 2018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ont bénéficié d’une formation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3 demandeurs d’emploi sur 4 avaient un niveau Bac ou moins en entrant en for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Un peu moins d’un demandeur d’emploi sur deux (48 %) avaient un niveau de formation inférieur au Ba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90 % des personnes interrogées ont estimé que la formation avait été bénéfique d'une manière professionnelle et/ou personnelle (*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(*) éclairages et synthèse formation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oneTexte 3"/>
          <p:cNvSpPr/>
          <p:nvPr/>
        </p:nvSpPr>
        <p:spPr>
          <a:xfrm>
            <a:off x="506520" y="6308640"/>
            <a:ext cx="6708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ZoneTexte 5"/>
          <p:cNvSpPr/>
          <p:nvPr/>
        </p:nvSpPr>
        <p:spPr>
          <a:xfrm>
            <a:off x="468360" y="6308640"/>
            <a:ext cx="619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ZoneTexte 6"/>
          <p:cNvSpPr/>
          <p:nvPr/>
        </p:nvSpPr>
        <p:spPr>
          <a:xfrm>
            <a:off x="620640" y="6461280"/>
            <a:ext cx="619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Calibri"/>
              </a:rPr>
              <a:t>* </a:t>
            </a:r>
            <a:r>
              <a:rPr b="0" lang="fr-FR" sz="1700" spc="-1" strike="noStrike">
                <a:solidFill>
                  <a:srgbClr val="ffffff"/>
                </a:solidFill>
                <a:latin typeface="Calibri"/>
              </a:rPr>
              <a:t> Eclairage et synthèse Formation 2016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28520" y="429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LE TAUX DE RETOUR Á L’EMPLOI DES DEMANDEURS</a:t>
            </a:r>
            <a:br>
              <a:rPr sz="2200"/>
            </a:br>
            <a:r>
              <a:rPr b="0" lang="fr-FR" sz="2200" spc="-1" strike="noStrike">
                <a:solidFill>
                  <a:srgbClr val="ffffff"/>
                </a:solidFill>
                <a:latin typeface="Calibri"/>
              </a:rPr>
              <a:t> D’EMPLOI SORTIS DE 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Picture 7" descr=""/>
          <p:cNvPicPr/>
          <p:nvPr/>
        </p:nvPicPr>
        <p:blipFill>
          <a:blip r:embed="rId1"/>
          <a:stretch/>
        </p:blipFill>
        <p:spPr>
          <a:xfrm>
            <a:off x="222120" y="1573200"/>
            <a:ext cx="9483840" cy="5052960"/>
          </a:xfrm>
          <a:prstGeom prst="rect">
            <a:avLst/>
          </a:prstGeom>
          <a:ln w="0">
            <a:noFill/>
          </a:ln>
        </p:spPr>
      </p:pic>
      <p:sp>
        <p:nvSpPr>
          <p:cNvPr id="409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28520" y="475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LE RETOUR A L’EMPLOI DES DEMANDEURS D’EMPLOI SORTIS </a:t>
            </a: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DE FORMATION – PAR DOMAINES DE 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1"/>
          <a:stretch/>
        </p:blipFill>
        <p:spPr>
          <a:xfrm>
            <a:off x="177840" y="1413000"/>
            <a:ext cx="9293040" cy="5329080"/>
          </a:xfrm>
          <a:prstGeom prst="rect">
            <a:avLst/>
          </a:prstGeom>
          <a:ln w="0">
            <a:noFill/>
          </a:ln>
        </p:spPr>
      </p:pic>
      <p:sp>
        <p:nvSpPr>
          <p:cNvPr id="412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Afficher l'image d'origine"/>
          <p:cNvPicPr/>
          <p:nvPr/>
        </p:nvPicPr>
        <p:blipFill>
          <a:blip r:embed="rId1"/>
          <a:stretch/>
        </p:blipFill>
        <p:spPr>
          <a:xfrm>
            <a:off x="2943360" y="567072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414" name="Espace réservé du numéro de diapositive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843-DA87-49F5-8844-EAAF22AED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Rectangle 48"/>
          <p:cNvSpPr/>
          <p:nvPr/>
        </p:nvSpPr>
        <p:spPr>
          <a:xfrm>
            <a:off x="3537000" y="623880"/>
            <a:ext cx="6743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1260360" y="5877000"/>
            <a:ext cx="89125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Statistiques.13992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Caroline.kohser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nicolas.bianco@pole-emploi.f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973080" y="1851120"/>
            <a:ext cx="397980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Site institutionnel de Pôle Emploi: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WWW.POLE EMPLOI.OR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Notes et productions de la direction générale des Statistiques sur différents champs (demandeurs d’emploi, entreprise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Requêteurs de données : demande d’emploi, offres d’emploi, enquête Besoins en Main d’Oeuvre, entrées et sortants de formation       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12" descr="RÃ©sultat de recherche d'images pour &quot;internet&quot;"/>
          <p:cNvPicPr/>
          <p:nvPr/>
        </p:nvPicPr>
        <p:blipFill>
          <a:blip r:embed="rId2"/>
          <a:stretch/>
        </p:blipFill>
        <p:spPr>
          <a:xfrm rot="19617000">
            <a:off x="93600" y="1714320"/>
            <a:ext cx="1087560" cy="61092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0"/>
          <p:cNvSpPr/>
          <p:nvPr/>
        </p:nvSpPr>
        <p:spPr>
          <a:xfrm>
            <a:off x="5251320" y="1525680"/>
            <a:ext cx="4627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72423"/>
                </a:solidFill>
                <a:latin typeface="Calibri"/>
              </a:rPr>
              <a:t>RUBRIQUE REGIONALE SUR LES STATISTIQU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http://www.pole-emploi.org/regions/provence-alpes-cote-d-azur/statistiques-analyses.htm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0" name="Picture 12" descr="RÃ©sultat de recherche d'images pour &quot;internet&quot;"/>
          <p:cNvPicPr/>
          <p:nvPr/>
        </p:nvPicPr>
        <p:blipFill>
          <a:blip r:embed="rId3"/>
          <a:stretch/>
        </p:blipFill>
        <p:spPr>
          <a:xfrm rot="19617000">
            <a:off x="4279680" y="1665360"/>
            <a:ext cx="1087200" cy="61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7" descr=""/>
          <p:cNvPicPr/>
          <p:nvPr/>
        </p:nvPicPr>
        <p:blipFill>
          <a:blip r:embed="rId4"/>
          <a:srcRect l="3559" t="16560" r="1339" b="3735"/>
          <a:stretch/>
        </p:blipFill>
        <p:spPr>
          <a:xfrm>
            <a:off x="5297400" y="2997360"/>
            <a:ext cx="4552920" cy="2146320"/>
          </a:xfrm>
          <a:prstGeom prst="rect">
            <a:avLst/>
          </a:prstGeom>
          <a:ln w="0">
            <a:noFill/>
          </a:ln>
        </p:spPr>
      </p:pic>
      <p:sp>
        <p:nvSpPr>
          <p:cNvPr id="422" name="Titre 1"/>
          <p:cNvSpPr/>
          <p:nvPr/>
        </p:nvSpPr>
        <p:spPr>
          <a:xfrm>
            <a:off x="1928880" y="63036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OÙ RETROUVER NOS PRODUCTIONS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176640" y="404640"/>
            <a:ext cx="6337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Présentation du Service Statistiques Études et Évaluations (SE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Espace réservé du numéro de diapositive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40A-283E-4528-AB4C-4B67727D3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4" name="Espace réservé du contenu 1" descr=""/>
          <p:cNvPicPr/>
          <p:nvPr/>
        </p:nvPicPr>
        <p:blipFill>
          <a:blip r:embed="rId1"/>
          <a:stretch/>
        </p:blipFill>
        <p:spPr>
          <a:xfrm>
            <a:off x="274680" y="1809720"/>
            <a:ext cx="9155160" cy="2421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6" descr="Afficher l'image d'origine"/>
          <p:cNvPicPr/>
          <p:nvPr/>
        </p:nvPicPr>
        <p:blipFill>
          <a:blip r:embed="rId2"/>
          <a:stretch/>
        </p:blipFill>
        <p:spPr>
          <a:xfrm>
            <a:off x="360360" y="2498760"/>
            <a:ext cx="2109960" cy="1146240"/>
          </a:xfrm>
          <a:prstGeom prst="rect">
            <a:avLst/>
          </a:prstGeom>
          <a:ln w="0">
            <a:noFill/>
          </a:ln>
        </p:spPr>
      </p:pic>
      <p:sp>
        <p:nvSpPr>
          <p:cNvPr id="346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7" name="Picture 2" descr="Afficher l'image d'origine"/>
          <p:cNvPicPr/>
          <p:nvPr/>
        </p:nvPicPr>
        <p:blipFill>
          <a:blip r:embed="rId3"/>
          <a:stretch/>
        </p:blipFill>
        <p:spPr>
          <a:xfrm>
            <a:off x="3517920" y="4111560"/>
            <a:ext cx="3139920" cy="198144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8"/>
          <p:cNvSpPr/>
          <p:nvPr/>
        </p:nvSpPr>
        <p:spPr>
          <a:xfrm>
            <a:off x="704880" y="4149720"/>
            <a:ext cx="2735280" cy="9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duire, contrôler et valider des données relatives au marché du travail et de l’emplo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693720" y="5554800"/>
            <a:ext cx="2735280" cy="9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Réaliser des outils d’aide à la décision, diagnostics, études et évaluations sur le marché du travail et de l’emploi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6737400" y="4041720"/>
            <a:ext cx="2752560" cy="9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56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Accompagner la diffusion de l’information sur les dynamiques du marché du travail et de l’emploi régional en interne et en extern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6737400" y="5624640"/>
            <a:ext cx="2752560" cy="97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MS PGothic"/>
              </a:rPr>
              <a:t>Développer et capitaliser des connaissances techniques et statistiques, faciliter le lien avec le monde scientifique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52" name="Connecteur droit avec flèche 4"/>
          <p:cNvCxnSpPr/>
          <p:nvPr/>
        </p:nvCxnSpPr>
        <p:spPr>
          <a:xfrm flipH="1" flipV="1">
            <a:off x="3517200" y="4436640"/>
            <a:ext cx="788040" cy="288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3" name="Connecteur droit avec flèche 16"/>
          <p:cNvCxnSpPr/>
          <p:nvPr/>
        </p:nvCxnSpPr>
        <p:spPr>
          <a:xfrm flipH="1">
            <a:off x="3592080" y="5811480"/>
            <a:ext cx="713520" cy="281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4" name="Connecteur droit avec flèche 18"/>
          <p:cNvCxnSpPr/>
          <p:nvPr/>
        </p:nvCxnSpPr>
        <p:spPr>
          <a:xfrm flipV="1">
            <a:off x="5816160" y="4590360"/>
            <a:ext cx="842040" cy="207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5" name="Connecteur droit avec flèche 22"/>
          <p:cNvCxnSpPr/>
          <p:nvPr/>
        </p:nvCxnSpPr>
        <p:spPr>
          <a:xfrm>
            <a:off x="6032160" y="5936760"/>
            <a:ext cx="626040" cy="15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6" name="Rectangle 1"/>
          <p:cNvSpPr/>
          <p:nvPr/>
        </p:nvSpPr>
        <p:spPr>
          <a:xfrm>
            <a:off x="511200" y="1679400"/>
            <a:ext cx="91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23634"/>
                </a:solidFill>
                <a:latin typeface="Calibri"/>
              </a:rPr>
              <a:t>Être au cœur du réseau de l’emploi pour un meilleur fonctionnement du marché du travai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23634"/>
                </a:solidFill>
                <a:latin typeface="Calibri"/>
              </a:rPr>
              <a:t>Mieux connaitre pour agir !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007F-88DE-4707-8B32-A45BE0730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rcRect l="13907" t="31145" r="12062" b="18296"/>
          <a:stretch/>
        </p:blipFill>
        <p:spPr>
          <a:xfrm>
            <a:off x="636480" y="1628640"/>
            <a:ext cx="8702640" cy="475632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ZoneTexte 4"/>
          <p:cNvSpPr/>
          <p:nvPr/>
        </p:nvSpPr>
        <p:spPr>
          <a:xfrm>
            <a:off x="415800" y="1557360"/>
            <a:ext cx="1657440" cy="11307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B011-734C-4E8B-9A82-55B09CCEE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2897280" y="1641600"/>
            <a:ext cx="666432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030a0"/>
                </a:solidFill>
                <a:latin typeface="Calibri"/>
              </a:rPr>
              <a:t>Une photographie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structure de la demande et de l’offre d’emploi pour qualifier les compétences recherchées sur les territoires 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taux de chômage localisés pour poser le diagnostic sur les territoir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données d’emploi pour faire ressortir les spécificités des territoires en termes d’activité, les dynamiques économiqu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éléments sociodémographiques pour définir le territoire évolution de la population, flux migratoires, catégorie socioprofessionnelle de la population…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nature et l’usage des contrats de travail disponibles sur les territoir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rcRect l="14389" t="45897" r="67544" b="31104"/>
          <a:stretch/>
        </p:blipFill>
        <p:spPr>
          <a:xfrm>
            <a:off x="415800" y="1641600"/>
            <a:ext cx="2203560" cy="22431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6"/>
          <p:cNvSpPr/>
          <p:nvPr/>
        </p:nvSpPr>
        <p:spPr>
          <a:xfrm>
            <a:off x="2917800" y="3929040"/>
            <a:ext cx="640080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66"/>
                </a:solidFill>
                <a:latin typeface="Calibri"/>
              </a:rPr>
              <a:t>Analyse des tendances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nalyser les principaux indicateurs conjoncturels sur le marché du travail (demande d’emploi, taux de chômage ,emploi salarié…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Illustrer les évolutions de l’emploi et du chômage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u travers d’approches standards par territoire (région, département, bassins, etc.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u travers d’approches spécifiques : publics particuliers et/ou en difficultés (jeunes, cadres, seniors, demandeurs d’emploi de longue durée,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habitants dans les quartiers prioritaires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), secteurs d’activité ou zonages géographiques spécifiques (métropole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Suivre les indicateurs économiques (licenciements économiques, défaillances et créations d’entreprises, etc.) et les mesures à l’emploi  instituées par l’État Françai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2"/>
          <a:srcRect l="28568" t="32529" r="53187" b="43746"/>
          <a:stretch/>
        </p:blipFill>
        <p:spPr>
          <a:xfrm>
            <a:off x="395280" y="4041720"/>
            <a:ext cx="2224080" cy="23148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0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numéro de diapositiv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9962-8BB2-4BA9-B253-CCE9D348E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28113" t="59421" r="52963" b="16672"/>
          <a:stretch/>
        </p:blipFill>
        <p:spPr>
          <a:xfrm>
            <a:off x="384120" y="1700280"/>
            <a:ext cx="2306520" cy="23320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rcRect l="43042" t="46211" r="38471" b="29701"/>
          <a:stretch/>
        </p:blipFill>
        <p:spPr>
          <a:xfrm>
            <a:off x="469800" y="4157640"/>
            <a:ext cx="2254320" cy="23493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8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3224160" y="1706400"/>
            <a:ext cx="618660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638667"/>
                </a:solidFill>
                <a:latin typeface="Calibri"/>
              </a:rPr>
              <a:t>Anticiper les évolutions du marché du Travai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ppréhender les besoins des entreprises pour adapter notre offre de formation (ex :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enquête Besoin en main d’Œuvre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qui interroge chaque année prés de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150 000 entreprises régionales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connaitre leurs recrutements à venir, la difficulté qu’ils estiment pour pourvoir le recrutement et la saisonnalité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ssurer une veille économique relative aux créations et destructions d’emploi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Anticiper les évolutions des territoires en termes de gestion des emplois et des compétences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Etre en alerte sur les grands projets impactant les territoir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Rectangle 10"/>
          <p:cNvSpPr/>
          <p:nvPr/>
        </p:nvSpPr>
        <p:spPr>
          <a:xfrm>
            <a:off x="3313080" y="4437000"/>
            <a:ext cx="6026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Mesurer l’efficacité de nos actio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Évaluer les services et programmes déployés par la région dans le cadre de l’adaptation de l’offre de service nationale et/ou d’expérimentations spécifiq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ontribuer à la mise en œuvre des évaluations nationa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Espace réservé du numéro de diapositive 4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0F3B-220D-4551-AD78-A4B86826F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rcRect l="64942" t="41775" r="12062" b="29838"/>
          <a:stretch/>
        </p:blipFill>
        <p:spPr>
          <a:xfrm>
            <a:off x="195120" y="2630520"/>
            <a:ext cx="2573640" cy="25416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8"/>
          <p:cNvSpPr/>
          <p:nvPr/>
        </p:nvSpPr>
        <p:spPr>
          <a:xfrm>
            <a:off x="2792520" y="2060640"/>
            <a:ext cx="676908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Calibri"/>
              </a:rPr>
              <a:t>Mieux adapter notre action aux besoins des territoir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Réaliser un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diagnostic socio-économique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mettre en évidence les forces et les faiblesses du territoire en analysant conjointement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contexte du marché du travail local ; demande d’emploi, qualification, formation, etc. Ce travail permet de mettre en évidence les spécificités du territoire, notamment l’analyse des publics les plus en difficulté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spécificités démographiques (attractivité ou non des territoires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données du marché de l’emploi : offres d’emploi, embauches, emploi salarié, structure et évolution des secteurs professionnels, opportunités d’embauches, projets de développement, installations ou réduction d’effectifs et fermetures d’entreprises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’économie et la conjoncture récente du territoi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s lieux de délivrance des services et le lien partenarial avec les acteurs de l’emploi local (entreprises, prestataires, associations, partenaires, institutionnels…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3224160" y="476280"/>
            <a:ext cx="611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Une vision globale s’appuyant sur des approches complémentai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Espace réservé du pied de page 1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2865600" y="404640"/>
            <a:ext cx="669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QUELQUES EXEMPLES DE L’OFFRE DE SERVI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Espace réservé du numéro de diapositive 2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7089-29F8-4170-ACD5-5A4E9A1B9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52160" y="1699920"/>
            <a:ext cx="8209080" cy="48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Statistiques trimestrielles du marché du travail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: par catégories d’inscriptions, typologies de publics (par sexe, âge, niveau de diplôme ou qualification…), ancienneté d’inscription… </a:t>
            </a:r>
            <a:r>
              <a:rPr b="1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 Outil interne « STAT’XPR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Portraits socio-économique :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Ils ont pour objectif d’identifier les principales problématiques du marché du travail pour le territoire et son environnement. Ils visent à mieux comprendre les enjeux liés au territoire en termes de: démographie, emploi, chômage, les publics concernés dont ceux éloignés de l’emploi, la mobilité professionnelle et/ou géographique, les besoins des entreprises, les compétences des demandeurs d’emploi</a:t>
            </a:r>
            <a:r>
              <a:rPr b="0" lang="fr-FR" sz="1400" spc="-1" strike="noStrike">
                <a:solidFill>
                  <a:srgbClr val="354687"/>
                </a:solidFill>
                <a:latin typeface="Candara"/>
              </a:rPr>
              <a:t>…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29 documents 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sont ainsi produits chaque anné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1 Diagnostic Rég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6 Diagnostics Département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34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22 diagnostics bass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es portraits viennent alimenter les diagnostics  territoriaux jusqu’au niveau local, notamment sur l’adaptation de l’offre de service aux besoins spécifiques des territoir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 algn="just">
              <a:spcBef>
                <a:spcPts val="3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823634"/>
                </a:solidFill>
                <a:latin typeface="Calibri"/>
              </a:rPr>
              <a:t>Observation Partenariale de la Conjoncture (</a:t>
            </a:r>
            <a:r>
              <a:rPr b="1" lang="fr-F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fr-FR" sz="1600" spc="-1" strike="noStrike">
                <a:solidFill>
                  <a:srgbClr val="823634"/>
                </a:solidFill>
                <a:latin typeface="Calibri"/>
              </a:rPr>
              <a:t>LI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Cette publication est le fruit d’une réflexion et d’une co-production partenariale des principaux acteurs en région: </a:t>
            </a: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Pôle emploi, Observatoire Régional des Métiers, Insee, Direccte, Conseil régional, Banque de France et Urssaf</a:t>
            </a: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. Il s’agit du seul document permettant de mobiliser et de synthétiser les dernières informations disponibles en matière d'économie et d'emploi sur le marché du travail en région Provence-Alpes-Côte d’Azur.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8" descr="Afficher l'image d'origine"/>
          <p:cNvPicPr/>
          <p:nvPr/>
        </p:nvPicPr>
        <p:blipFill>
          <a:blip r:embed="rId1"/>
          <a:stretch/>
        </p:blipFill>
        <p:spPr>
          <a:xfrm>
            <a:off x="322200" y="1628640"/>
            <a:ext cx="878040" cy="657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Afficher l'image d'origine"/>
          <p:cNvPicPr/>
          <p:nvPr/>
        </p:nvPicPr>
        <p:blipFill>
          <a:blip r:embed="rId2"/>
          <a:stretch/>
        </p:blipFill>
        <p:spPr>
          <a:xfrm>
            <a:off x="228600" y="2844720"/>
            <a:ext cx="1065240" cy="935280"/>
          </a:xfrm>
          <a:prstGeom prst="rect">
            <a:avLst/>
          </a:prstGeom>
          <a:ln w="0">
            <a:noFill/>
          </a:ln>
        </p:spPr>
      </p:pic>
      <p:sp>
        <p:nvSpPr>
          <p:cNvPr id="386" name="Espace réservé du pied de page 1"/>
          <p:cNvSpPr/>
          <p:nvPr/>
        </p:nvSpPr>
        <p:spPr>
          <a:xfrm>
            <a:off x="3384720" y="651996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Offre de service SE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4638600" y="4125960"/>
            <a:ext cx="41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5760" indent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f0"/>
                </a:solidFill>
                <a:latin typeface="Wingdings"/>
                <a:ea typeface="Wingdings"/>
              </a:rPr>
              <a:t>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  <a:ea typeface="MS PGothic"/>
              </a:rPr>
              <a:t> </a:t>
            </a:r>
            <a:r>
              <a:rPr b="1" lang="fr-FR" sz="1600" spc="-1" strike="noStrike">
                <a:solidFill>
                  <a:srgbClr val="00b0f0"/>
                </a:solidFill>
                <a:latin typeface="Calibri"/>
                <a:ea typeface="MS PGothic"/>
              </a:rPr>
              <a:t>Exemple de portrait socio-économiqu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8" name="Picture 9" descr=""/>
          <p:cNvPicPr/>
          <p:nvPr/>
        </p:nvPicPr>
        <p:blipFill>
          <a:blip r:embed="rId3"/>
          <a:srcRect l="22727" t="16374" r="45442" b="5875"/>
          <a:stretch/>
        </p:blipFill>
        <p:spPr>
          <a:xfrm>
            <a:off x="257040" y="5319720"/>
            <a:ext cx="10083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125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INDICATEURS DE LA CONVENTION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TRIPAR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400" spc="-1" strike="noStrike">
                <a:solidFill>
                  <a:srgbClr val="002060"/>
                </a:solidFill>
                <a:latin typeface="Calibri"/>
              </a:rPr>
              <a:t>12 indicateurs déclinés jusqu’au niveau ag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Pour mesurer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e retour à l’emplo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satisfaction de nos publics (entreprises et demandeurs d’emplo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1400" spc="-1" strike="noStrike">
                <a:solidFill>
                  <a:srgbClr val="002060"/>
                </a:solidFill>
                <a:latin typeface="Calibri"/>
              </a:rPr>
              <a:t>La performance de nos services au regard de nos engage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495360" y="3141720"/>
            <a:ext cx="3871800" cy="3255840"/>
          </a:xfrm>
          <a:prstGeom prst="rect">
            <a:avLst/>
          </a:prstGeom>
          <a:ln w="0">
            <a:noFill/>
          </a:ln>
        </p:spPr>
      </p:pic>
      <p:sp>
        <p:nvSpPr>
          <p:cNvPr id="392" name="ZoneTexte 4"/>
          <p:cNvSpPr/>
          <p:nvPr/>
        </p:nvSpPr>
        <p:spPr>
          <a:xfrm>
            <a:off x="4521240" y="3068640"/>
            <a:ext cx="2087640" cy="36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1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Nombre de retour à l’emploi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3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Nombre de demandeurs d’emploi restés 12 mois en catégorie A pendant les 15 derniers moi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558ed5"/>
                </a:solidFill>
                <a:latin typeface="Calibri"/>
              </a:rPr>
              <a:t>ICT4</a:t>
            </a:r>
            <a:r>
              <a:rPr b="0" lang="fr-FR" sz="1200" spc="-1" strike="noStrike">
                <a:solidFill>
                  <a:srgbClr val="558ed5"/>
                </a:solidFill>
                <a:latin typeface="Calibri"/>
              </a:rPr>
              <a:t> : Taux d’accès à l’emploi six mois après la fin d’une formation prescrite par Pôle emploi</a:t>
            </a:r>
            <a:r>
              <a:rPr b="0" lang="fr-FR" sz="1700" spc="-1" strike="noStrike">
                <a:solidFill>
                  <a:srgbClr val="558ed5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5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Taux de satisfaction des demandeurs d’emploi concernant le suivi dont ils bénéficient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6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Nombre de demandeurs d’emploi en accompagnement intensif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7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1er paiement dans les délai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6824520" y="3068640"/>
            <a:ext cx="258624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8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conformité du traitement de la demande d’alloc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823634"/>
                </a:solidFill>
                <a:latin typeface="Calibri"/>
              </a:rPr>
              <a:t>ICT9</a:t>
            </a:r>
            <a:r>
              <a:rPr b="0" lang="fr-FR" sz="1200" spc="-1" strike="noStrike">
                <a:solidFill>
                  <a:srgbClr val="823634"/>
                </a:solidFill>
                <a:latin typeface="Calibri"/>
              </a:rPr>
              <a:t> : Taux de satisfaction des demandeurs d’emploi concernant les informations sur les sujets liés aux allocation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0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Part des offres en accompagnement satisfaites par Pôle 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1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Part des offres en accompagnement satisfaites par le placement d’un demandeur d’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bfbfbf"/>
                </a:solidFill>
                <a:latin typeface="Calibri"/>
              </a:rPr>
              <a:t>ICT12</a:t>
            </a:r>
            <a:r>
              <a:rPr b="0" lang="fr-FR" sz="1200" spc="-1" strike="noStrike">
                <a:solidFill>
                  <a:srgbClr val="bfbfbf"/>
                </a:solidFill>
                <a:latin typeface="Calibri"/>
              </a:rPr>
              <a:t> : Taux de satisfaction concernant le traitement de la dernière opération de recrutement par Pôle 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d28e8c"/>
                </a:solidFill>
                <a:latin typeface="Calibri"/>
              </a:rPr>
              <a:t>ICT14</a:t>
            </a:r>
            <a:r>
              <a:rPr b="0" lang="fr-FR" sz="1200" spc="-1" strike="noStrike">
                <a:solidFill>
                  <a:srgbClr val="d28e8c"/>
                </a:solidFill>
                <a:latin typeface="Calibri"/>
              </a:rPr>
              <a:t> : Temps consacré au suivi et à l’accompagnement personnalisé des demandeurs d’emploi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28520" y="313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ES INDICATEURS DE PERFORMANCE :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Calibri"/>
              </a:rPr>
              <a:t>LA TRANSPARENCE DE NOS DONNÉE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ww.pole-emploi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495360" y="1268280"/>
            <a:ext cx="8915400" cy="18972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"/>
          <p:cNvPicPr/>
          <p:nvPr/>
        </p:nvPicPr>
        <p:blipFill>
          <a:blip r:embed="rId2"/>
          <a:stretch/>
        </p:blipFill>
        <p:spPr>
          <a:xfrm>
            <a:off x="506520" y="3411360"/>
            <a:ext cx="8893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16:50:38Z</dcterms:created>
  <dc:creator>Direction générale Pôle emploi</dc:creator>
  <dc:description/>
  <dc:language>en-US</dc:language>
  <cp:lastModifiedBy>VERSAVEAU-GAUTIER Noelle</cp:lastModifiedBy>
  <cp:lastPrinted>2015-09-17T08:01:06Z</cp:lastPrinted>
  <dcterms:modified xsi:type="dcterms:W3CDTF">2019-09-04T15:00:05Z</dcterms:modified>
  <cp:revision>740</cp:revision>
  <dc:subject/>
  <dc:title>Présentation des premières évolutions de l’entretien d’inscription et de diagnostic et des nouvelles modalités de suivi  et d’accompagnement des demandeurs d’emploi</dc:title>
</cp:coreProperties>
</file>