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ftr" idx="1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 type="sldNum" idx="1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F400-6F17-4651-ACCA-B971EFAAA3C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5A85-990E-430E-B39E-7A2C97B6294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1056-B230-418E-9498-C2EFA6A7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7971-CB02-486E-8593-D42D1A27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008E-151C-4D7A-B597-AAD1C78D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09D9-7474-4C9F-AAEA-E8E513427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5CA1-F8C1-4561-9784-BB123663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D540-32CA-4F6A-BE2C-492923F5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05BD-92E4-462C-A283-A61BB747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757F-0035-428D-9CA6-82127475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02B6-359A-4767-9B44-ECBC4EFE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AB49-0819-4738-9DB0-0959036D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1F60-9052-4EAE-A98E-56E6F1C2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8E98-6CEF-4CD8-838A-56C2271B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F9F0-DA0A-4C34-9B45-359BF7F2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0190-305B-4E90-A514-26487B81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E925-734E-4412-816B-03846ED9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55B5-1A5E-491F-B89D-337BE6FE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7468-92E4-47B1-B2BF-5703BC051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3B72C-369D-44C4-979A-59583DCA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7F293-06D6-430B-9E06-FEE294AC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5915B-CB13-404C-ABED-C0AAFC06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081D1-6289-4A08-AC21-75196DEC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86207-4E12-4F5C-B572-964DF658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26D7-2C10-4824-8934-BA3AB0F4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13850-2FCD-451F-9EA1-E0FAA47C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90DB9-BEE7-457C-9247-A4F1CA63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22746-27FE-44B5-A195-22B89D8F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56F68-DF26-4A68-B90F-519EB65F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76D8E-4C47-4F6C-9D4F-E61D20F6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052A6-186B-4D9C-A2B5-3AEB49FF9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9C66B-5D34-4A2E-9B20-8CAE30B0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ACFD0C-B14C-4D41-A96B-7247AEA775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B60286-DAAC-461D-928E-8B45BA42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34EE5A-2BD9-4FF7-9E26-889CDFC0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4902-C945-4041-B7F9-82E25979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5813B0-EB43-4B29-897C-9C8EA81A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C2003B-4122-4C5C-B090-1D8D40C97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FC41B2-5257-45E6-A7FD-9BF903FF6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040446-8F81-406A-882F-28685ECB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C94FBE-115C-4380-BC2C-300DB638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C136F2-DBA5-40B0-B1F3-1C80D919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4E7AEC-6DCC-483B-92CC-F9CEAC49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34FDA0-FF4A-4B08-9F54-16E1E724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06377A-1192-41D3-8C12-813B084F14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6AC60B-B670-4BEF-A5E0-A5F0C7136B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AF64-CF0F-4034-BD4C-D069FA1D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631A25-B134-4411-9866-466C8C3C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C9A488-8666-41B5-B58D-8287BC63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CF5870-A4FA-4BD1-BFDB-D93E3892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D7219F-931D-454D-A5AA-FDDC45B7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44A5DF-1B8C-4C55-A0A6-258C1552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3124E5-A059-4861-AFDE-6384CE98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47450C-914D-4114-AB0C-2069B575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6F7290-F522-4CFA-8087-19536A66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BFAD32-DE98-4E98-A8B0-FE8E792D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EE6F62-F25A-4FA7-A3D0-624FD420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95DC-D933-4AF6-A1D6-9A0C201C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9D619A-A7C9-4928-93A5-B0AF13C06A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48382-66DC-4737-81BE-FC5C6772F1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22006-FC22-4093-8C35-759AE96B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43D96-EA65-494A-952F-D1FCB86A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4658F-531B-414C-AD14-53BCBE10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A5926-569D-46A6-A368-F75578CC8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B4D15-E2EF-416F-9DF1-E6F3D293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2AB90-F90A-463B-9597-153C44A5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AB0A7-2196-42D9-833D-6DB04D1C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E92AD-CA90-4B57-A9F7-E6007A0C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7023-1F50-43B7-A7AE-1C28B72F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4B89D-EC03-441A-A302-7F82E24C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B5403-C38A-4400-A0E2-290C500E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8C0E4-E8A0-45B5-B7BC-84017F2489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A4BB-3D94-43E4-88D2-9A490F92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B1E3-5FCF-4162-9E4D-D016E695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cb3"/>
            </a:gs>
            <a:gs pos="100000">
              <a:srgbClr val="fffc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4B0F-FEEF-4E4C-9CFC-3D74A560FC4B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cb3"/>
            </a:gs>
            <a:gs pos="100000">
              <a:srgbClr val="fffc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3A10-2DF6-468B-B4C6-B4DDCB69D304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F431-EDB7-4AE5-BB06-447DD3757CA8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cb3"/>
            </a:gs>
            <a:gs pos="100000">
              <a:srgbClr val="fffc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Informazioni docu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3170-4B88-46B7-BE9E-61D2E88AB70F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cb3"/>
            </a:gs>
            <a:gs pos="100000">
              <a:srgbClr val="fffc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Informazioni docu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532F-E741-44C4-BD0C-6CD6FAF9CE92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cb3"/>
            </a:gs>
            <a:gs pos="100000">
              <a:srgbClr val="fffc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Informazioni docu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4EBC-E999-46E9-9710-8F8A3979E0B6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ttangolo 1"/>
          <p:cNvSpPr/>
          <p:nvPr/>
        </p:nvSpPr>
        <p:spPr>
          <a:xfrm>
            <a:off x="0" y="1623960"/>
            <a:ext cx="6443640" cy="86148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37923" dir="4201013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  <a:ea typeface="MS PGothic"/>
              </a:rPr>
              <a:t>Le politiche dell’apprendimento nella Regione Laz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Immagine 7" descr="1° maggio 2015: cosa fare per il lavoro?"/>
          <p:cNvPicPr/>
          <p:nvPr/>
        </p:nvPicPr>
        <p:blipFill>
          <a:blip r:embed="rId1"/>
          <a:stretch/>
        </p:blipFill>
        <p:spPr>
          <a:xfrm>
            <a:off x="4292640" y="2492280"/>
            <a:ext cx="4825800" cy="273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2" name="CasellaDiTesto 2"/>
          <p:cNvSpPr/>
          <p:nvPr/>
        </p:nvSpPr>
        <p:spPr>
          <a:xfrm>
            <a:off x="2496960" y="5229360"/>
            <a:ext cx="662148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Roma, 15-16 NOVEMBRE  2018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ttangolo 2"/>
          <p:cNvSpPr/>
          <p:nvPr/>
        </p:nvSpPr>
        <p:spPr>
          <a:xfrm>
            <a:off x="631800" y="100080"/>
            <a:ext cx="81882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Progetto EQUAL- UPSKILLING PATHWAY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ttangolo 2"/>
          <p:cNvSpPr/>
          <p:nvPr/>
        </p:nvSpPr>
        <p:spPr>
          <a:xfrm>
            <a:off x="-609840" y="4329000"/>
            <a:ext cx="31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Ornella  Guglielmi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La metodolog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efinizione dei 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rofili di certificabilità 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ei progetti di servizio civile elaborata da  ISFOL (oggi INAPP) su tutti i 409 progetti a valere sul bando nazionale di Servizio civile per individuare le competenze oggetto di validazi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assaggio dal linguaggio comune al lessico settoriale delle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ree di attività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a pesatura è servita ad associare le azioni in cui è coinvolto il volontario, all’AdA del Quadro Nazionale delle Qualificazioni regionali e al Repertorio delle Competenze e dei Profili formativi della Regi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er la Regione Lazio definizione del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rofilo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certificabilità 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u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38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rogetti a valere su bando naziona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La metodologia/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Successivamente, secondo la descritta metodologia, la Regione Lazi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on il supporto di Italia Lavoro (oggi ANPAL servizi) ha preso in  carico l’elaborazione de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94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rogetti a valere sul bando regionale d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Servizio civil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B) ha selezionato gli operatori dei CPI e dei CPFP per la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funzione di «Accompagnamento e supporto alla individuazione e messa in trasparenza delle competenze»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) ha erogato due giornate formative a 16 operatori della Città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 metropolitana di Roma Capital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La metodologia/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) ha elaborato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strumenti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dispositivi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er la costruzione del </a:t>
            </a: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Dossier individua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E) ha costruito le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griglie di trasparenza precompilate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i supporto agli Operatori per i colloqui con i volonta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F) ha condiviso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on gli Operatori dei CPI e dei CPFP di Città metropolitana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i dispositivi per la costruzione del dossier individuale e per la compilazione del documento di trasparen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Risulta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16 documenti di trasparenza rilasciati - dato che va letto non in termini di valore assoluto , ma per il suo significato e la port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assaggio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dalle politiche formative alle politiche dell’apprendimen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Maggiore ruolo della Regione nella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garanzia dei diritt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e nella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romozione delle opportunità di apprendimen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Insieme di opportunità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er gli attori del sistema dell’offerta formativa e dei servizi per il lavo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ecessità di un “tempo di apprendimento” per tutti gli attor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(organismi formativi, imprese, cittadini e Istituzioni), attraverso un processo progressivo e finalizzato alla costruzione di una diffusa capacità di riconoscimento dei bisogni e  di attuazione delle rispos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Conclusio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a sperimentazione ha mostra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forte rilevanza orientativa e di progetto personale della fase iniziale di identificazione e messa in trasparenza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che appare un momento fondamentale di acquisizione di consapevolezza e capacità di efficace rappresentazione degli apprendimenti da parte dei loro portato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«Progetto Pilota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ontemporaneamente alla sperimentazione del servizio di individuazione e mesa in trasparenza del servizio civile GG parte il «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rogetto pilota Formazione Valore Apprendimento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Obiettivi di sistem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Estendere e rafforzare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le pratiche di progettazione per competenze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ei percorsi formativi 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Avviare 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 sistema regionale di riconoscimento dei crediti  formativ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Formare gli operatori coinvolt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n vista della loro abilitazione all’esercizio delle funzioni di «Individuazione emessa in trasparenza delle competenze» e «pianificazione e realizzazione delle attività valutative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«Progetto Pilota»/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348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Istituisce lo standard professionale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elle unità di competenz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«Accompagnare e supportare l’individuazione emessa in trasparenza delle competenze anche al fine di riconoscere i crediti formativi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«Pianificare e realizzare le attività valutative rivolte al riconoscimento dei crediti formativi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ianificare e realizzare le attività valutative rivolte alla validazione delle competenze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Inserisce le UC nel Repertorio regionale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elle competenze e dei profil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Istituisce l’elenco degli operatori abilitati 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ll’esercizio delle funzioni di individuazione e validazione delle competenz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Istituisce l’elenco degli operatori autorizzati alla realizzazione delle attività valutative di contenuto curriculare e professional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«LEGAMI INTEGRI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a Regione sta concludendo la sperimentazione del servizio di individuazione e messa in trasparenza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per 10 rifugiati del progetto «Legami Integri»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di ROMA Capitale (a valere sul FAM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Ha individuato formalmente 2 Operatori dei CPI abilitati e iscritti nell’elenco regiona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Ha predisposto il Format per il rilascio dei documento di trasparen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«PRIMA IL LAVORO» (FAM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Obiettivo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: raggiungere 2.350 cittadini di paesi terzi regolarmente presenti in Ital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Azioni: 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orientate a migliorare la conoscenza e l’accesso ai servizi al lavoro presenti sul territorio, anche mediante la semplificazione delle informazioni/comunicazion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Interventi volti a validare le competenze non formali o informali acquisite, anche durante il percorso migratorio per 1880 cittadini di paesi terz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ntervent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volti a favorire la tracciabilità delle misure di politica del lavoro attivate a favore dei destinatari, anche attraverso il rafforzamento e/o messa in rete dei sistemi informativi/gestionali dei serviz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otenziament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di percorsi di sensibilizzazione ai temi dell’integrazione economica e del contrasto alla discriminazione sul lavor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zioni innovative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volte a favorire il coinvolgimento dei migranti in settori produttivi emergenti o legati al tessuto produttivo locale,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ec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Tirocini extracurricul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 passato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NON SI PARLAVA DI COMPETENZE,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ma veniva lasciata facoltà al soggetto promotore di individuare il format più adeguato per procedere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all’attestazione delle attività svolte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al tirocinante sulle risultanze di un questionario che il soggetto ospitante e lo stesso destinatario compilavano al termine del percorso formativo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a nuova disciplina regionale (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DGR  533/2017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) prevede espressamente che le attività indicate nel PFI costituiscano la base per procedere all’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Attestazione finale delle competenze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cquisite durante il percorso formativ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Le politiche del lavo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e politiche attive del lavoro si articolano in una pluralità di opportunità che coprono tutto il campo dell’apprendimento attraverso prevalentemente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ercorsi di formazione rivolti alla acquisizione di qualificazioni e abilitazioni (</a:t>
            </a:r>
            <a:r>
              <a:rPr b="1" i="1" lang="it-IT" sz="2000" spc="-1" strike="noStrike">
                <a:solidFill>
                  <a:srgbClr val="000000"/>
                </a:solidFill>
                <a:latin typeface="Calibri"/>
              </a:rPr>
              <a:t>formal learning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) o conclusi da attestazioni semplici (</a:t>
            </a:r>
            <a:r>
              <a:rPr b="1" i="1" lang="it-IT" sz="2000" spc="-1" strike="noStrike">
                <a:solidFill>
                  <a:srgbClr val="000000"/>
                </a:solidFill>
                <a:latin typeface="Calibri"/>
              </a:rPr>
              <a:t>non formal learning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tirocini extracurricolar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le cui recenti disposizioni rendono obbligatoria l’attestazione delle competenze in essi maturat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servizio civil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anche in questo caso rendendosi necessaria la referenziazione degli esiti in termini di competenz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azion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i accompagnamento al lavoro, mobilità ed altra progettualità individua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Prossimi pas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Approvare la direttiva accreditamento dei  soggetti titolati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Approvare la direttiva sugli standard minimi dei servizi di individuazione e messa in trasparenza, validazione e certificazione delle competenz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ttangolo 4"/>
          <p:cNvSpPr/>
          <p:nvPr/>
        </p:nvSpPr>
        <p:spPr>
          <a:xfrm>
            <a:off x="1619280" y="2421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Grazie per l’attenzione</a:t>
            </a: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4000" y="3409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L’ apprendim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254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Parlare di politiche attive porta dunque, necessariamente, a parlare sempre di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apprendimento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processo ch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richiede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partecipazione ed impegno personale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va rivolto ad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obiettivi misurabili di crescita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nduce ad un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cambiamento durevole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delle persone attraverso lo sviluppo di conoscenze , competenze , quadro di senso e abilità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38368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Dare valore agli apprendimenti: aspetto chi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Il tema fondamentale è dare valore a tutti gli apprendimenti, formali, non formali ed informal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a prospettiva dell’apprendimento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mette 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al centro la persona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, partendo non solo dai bisogni, ma anche dall’insieme delle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risors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possedut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(spesso senza piena coscienza delle loro potenzialità) attraverso un approccio individualizzat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fa in modo che gli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esiti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dell’apprendimento siano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riconoscibili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sia dalla  persona impegnata nelle misure attive sia da tutti gli altri attori del sistema ( in primo luogo  dal mercato del lavor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Cosa abbiamo fat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rafforzato e modernizzato il sistema complessivo dei servizi dell’impiego definendo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l  sistema di accreditamento per i servizi al lavor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ooperazione tra servizi pubblici e privati accredita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perimentato il sistema di individuazione/validazione delle competenz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i giovani NEET che scelgono la misura “servizio civile” in Garanzia Giova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8013960" cy="71928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27080" dir="5400000" blurRad="0" rotWithShape="0">
              <a:srgbClr val="000000">
                <a:alpha val="44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1. Il sistema regionale di accreditamento dei servizi per il lavo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28560" y="1413000"/>
            <a:ext cx="7886880" cy="31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a decisione strategica è stata quella di costruire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un sistema misto pubblico/privato,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dove è ben evidente la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centralità del ruolo pubblico e la sussidiariet̀à del privato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he supporta i centri per l’impiego nell’erogazione delle prestazioni ai destinatari.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Quindi sistema cooperativo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governance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 pubblica  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operatività priv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Immagine 1" descr=""/>
          <p:cNvPicPr/>
          <p:nvPr/>
        </p:nvPicPr>
        <p:blipFill>
          <a:blip r:embed="rId1"/>
          <a:stretch/>
        </p:blipFill>
        <p:spPr>
          <a:xfrm>
            <a:off x="4284720" y="4076640"/>
            <a:ext cx="38322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2. La sperimentazione nella misura servizio civile  di G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Eleggibilità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della spesa della Misura Servizio Civile subordinata alla individuazione e validazione delle competenze (PON IOG, PAR Lazio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Valorizzare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esperienza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di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Servizio Civile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nel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percorso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di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apprendimento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effettuato dal giovane per lo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sviluppo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miglioramento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delle sue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capacità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abilità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attitudini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per facilitare l’ingresso nel mercato del lavor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La sperimentazione nella Regione Laz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Regione Lazio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: soggetto «titolare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CPI e CPFP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: soggetti «titolati di diritto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vincoli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Linee guida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pprovate con decreto direttoriale del Ministero del Lavoro DD 227/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Rilascia la validazione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elle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competenze </a:t>
            </a: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soltanto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 relazione al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Repertorio delle competenze e dei profili formativi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ella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Regione Lazio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La sperimentazione anticipa le disposizioni della D.G.R. 122/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FASI e OUT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Individuazione e supporto alla messa in trasparenza delle competenze acquisite durante l’esperienza di Servizio Civi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output 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Documento di trasparen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Validazione delle competenze in relazione alle Unità di competenza/Profili del Repertorio della Regio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output 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Documento di validazio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3:31:39Z</dcterms:created>
  <dc:creator>Area Metodologie Strumenti</dc:creator>
  <dc:description/>
  <dc:language>en-US</dc:language>
  <cp:lastModifiedBy>Ornella Guglielmino</cp:lastModifiedBy>
  <cp:lastPrinted>2018-04-10T16:48:35Z</cp:lastPrinted>
  <dcterms:modified xsi:type="dcterms:W3CDTF">2018-11-26T13:37:18Z</dcterms:modified>
  <cp:revision>878</cp:revision>
  <dc:subject/>
  <dc:title>Diapositiva 1</dc:title>
</cp:coreProperties>
</file>