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ftr" idx="1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 type="sldNum" idx="1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D4AD-5857-449B-AA00-3929D30A8D5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4C06-37AD-48FE-BE24-209C39E9AC8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3EB3-05F3-4F8F-9587-711B96A34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3138-D872-4C1B-B829-B6E50CC8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9224-7B12-4380-8DB2-1C098809C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4AD0-A779-4BFE-845C-BF05965C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EC36-C6D9-4CEA-9BD1-18C42895A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C336-13B5-4D3B-A63B-8523E859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4C07-6848-4691-AB11-F9144568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9D78-6646-4740-B7B9-D78BE780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244F-1042-442D-8394-67E9B232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70BD-96DB-42E6-8A0E-A11C850D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CBEA-D983-405C-9D53-EC2958BB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EE86-7173-4A13-A02F-059C0946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DDC5-78E5-4CCB-8D54-3C2B2A65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58BE-0D8E-4791-81DA-687C3D15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339E-8582-4912-80F0-E5C99DD0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CE0D-2A00-4A75-BEEF-A37657FAF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E7D0-A6DB-4E01-8819-EA2908BA5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13267-580C-4894-9926-5D23AD367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4E039-5BFF-45F7-B3A1-9ECB1F2D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2699F-7FA0-4C09-B6BF-5E52AE60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9B978-B21B-47EF-8BC9-0ED87421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A0AF1-5D22-49AB-9295-B15F06A0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B501-57FD-4E9A-8470-A4A015B6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7688F-3896-4E9B-BF3C-4451E35E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2ED70-6B6F-4898-BD15-5045F27A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F30A2-5AD5-470D-A813-2E40C688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39B47-B547-4ED4-940D-636FC3AB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85B62-3AA2-458E-9B84-934BCC9F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096EB-CA11-43DF-81DA-33575C2A7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75B46-57A5-48A9-BB6E-598E8C496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0D4282-EF02-43D7-981E-F27CC4C321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6B334D-4538-4372-B835-690105DE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FEE466-5424-4C3A-86C0-CA920244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835F-50D2-4B77-95AA-0D519981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0F138F-D1E9-43B9-9780-F63BA8EC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CEFB62-57EC-44F1-99EA-5AA7AC3A3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E539DE-F055-4262-B421-2F37E8A4B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BB5604-44BF-4D6A-8C12-2CAC93C3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D0F31D-6E9B-44A7-AFCF-5BBFD1C9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95A6C5-2A29-4FC0-9C95-C14D1761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652D99-E7E7-4621-B7A9-CC6AD97B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B754F3-9103-443E-ACD1-F91BBAED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54485B-0913-4905-8C26-A417FD440F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152696-3430-4AC8-86F7-E2C1490FDB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86B4-4444-4254-9685-BAA63644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DD908B-67C8-4106-B7E0-74670273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B428F2-52A6-4F9A-AFE3-5E22F3D8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C1FF03-918E-47BA-806D-177A8829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C696CD-FC5E-4DFE-8D5C-771FF80E6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0DDEAD-E099-4711-BCC7-6DC1F22B0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4AD0EA-C39B-4573-A766-28D1FFEE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4CCC36-C69F-4DD0-A0D8-2C51F613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2F8A59-2F8F-4678-B7FE-3D3E0E40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8732F9-E2AC-4F03-BF82-B66826BC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B68EAC-15EB-4BB7-8AB3-FCB88278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BA41-6BAA-48EF-9B04-2DED56EB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0DB380-C3F7-4447-915B-EAD8D8105E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D40D8-FFE7-4AED-A25D-C6F32853F1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D876B-7CE0-4FDC-B729-30121A76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2169F-608D-4E4F-AE58-9715A5DD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E5725-CC27-49BE-B5C9-C184AA5E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EEE20-4DB1-4416-9C83-BE3CD88EF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B8DEA-F92E-44B3-A108-96FA70A3E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D5AFC-F7F3-4377-9271-4754E674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97672-5C63-4FF7-BD1C-A7BABBF0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A0F48-5146-457C-B1BE-F1E9F93E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DAD8-2AF2-46FB-A384-21997836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2647F-A912-40D4-8281-42953703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D4DA9-3FCF-4A38-950A-75C3B1F7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8A7BA-8AC6-4BF0-8C55-6CE6E83E11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EFA0-A383-4DCF-84C2-A79B9E64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345C-0137-4440-868E-198751D6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cb3"/>
            </a:gs>
            <a:gs pos="100000">
              <a:srgbClr val="fffc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8799-26C0-4053-89EE-AA416FAE0869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cb3"/>
            </a:gs>
            <a:gs pos="100000">
              <a:srgbClr val="fffc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F84A-BB6B-48EE-83DC-DADD58303FCD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53D8-F147-45C4-9F15-705B44C416E3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cb3"/>
            </a:gs>
            <a:gs pos="100000">
              <a:srgbClr val="fffc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Informazioni docu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56DC-5DB5-4467-8CFA-06994947CF02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cb3"/>
            </a:gs>
            <a:gs pos="100000">
              <a:srgbClr val="fffc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Informazioni docu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1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EC3F-A031-4F1A-B28D-67EEC397FADF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cb3"/>
            </a:gs>
            <a:gs pos="100000">
              <a:srgbClr val="fffc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Informazioni docu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7DB2-354E-4742-81DA-7637D9887909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ttangolo 1"/>
          <p:cNvSpPr/>
          <p:nvPr/>
        </p:nvSpPr>
        <p:spPr>
          <a:xfrm>
            <a:off x="0" y="1623960"/>
            <a:ext cx="6443640" cy="86148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37923" dir="4201013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  <a:ea typeface="MS PGothic"/>
              </a:rPr>
              <a:t>Le politiche dell’apprendimento nella Regione Laz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Immagine 7" descr="1° maggio 2015: cosa fare per il lavoro?"/>
          <p:cNvPicPr/>
          <p:nvPr/>
        </p:nvPicPr>
        <p:blipFill>
          <a:blip r:embed="rId1"/>
          <a:stretch/>
        </p:blipFill>
        <p:spPr>
          <a:xfrm>
            <a:off x="4292640" y="2492280"/>
            <a:ext cx="4825800" cy="273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2" name="CasellaDiTesto 2"/>
          <p:cNvSpPr/>
          <p:nvPr/>
        </p:nvSpPr>
        <p:spPr>
          <a:xfrm>
            <a:off x="2496960" y="5229360"/>
            <a:ext cx="662148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Roma, 15-16 NOVEMBRE  2018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ttangolo 2"/>
          <p:cNvSpPr/>
          <p:nvPr/>
        </p:nvSpPr>
        <p:spPr>
          <a:xfrm>
            <a:off x="631800" y="100080"/>
            <a:ext cx="81882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Progetto EQUAL- UPSKILLING PATHWAY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ttangolo 2"/>
          <p:cNvSpPr/>
          <p:nvPr/>
        </p:nvSpPr>
        <p:spPr>
          <a:xfrm>
            <a:off x="-609840" y="4329000"/>
            <a:ext cx="31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Ornella  Guglielmi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La metodolog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efinizione dei 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rofili di certificabilità 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ei progetti di servizio civile elaborata da  ISFOL (oggi INAPP) su tutti i 409 progetti a valere sul bando nazionale di Servizio civile per individuare le competenze oggetto di validazi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assaggio dal linguaggio comune al lessico settoriale delle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Aree di attività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La pesatura è servita ad associare le azioni in cui è coinvolto il volontario, all’AdA del Quadro Nazionale delle Qualificazioni regionali e al Repertorio delle Competenze e dei Profili formativi della Regi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Per la Regione Lazio definizione del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rofilo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i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certificabilità 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u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38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Progetti a valere su bando naziona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La metodologia/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uccessivamente, secondo la descritta metodologia, la Regione Lazi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on il supporto di Italia Lavoro (oggi ANPAL servizi) ha preso in  carico l’elaborazione dei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94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Progetti a valere sul bando regionale di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Servizio civil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B) ha selezionato gli operatori dei CPI e dei CPFP per la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funzione di «Accompagnamento e supporto alla individuazione e messa in trasparenza delle competenze»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) ha erogato due giornate formative a 16 operatori della Città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 metropolitana di Roma Capital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La metodologia/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) ha elaborato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strumenti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dispositivi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er la costruzione del </a:t>
            </a: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Dossier individua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E) ha costruito le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griglie di trasparenza precompilate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i supporto agli Operatori per i colloqui con i volonta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F) ha condiviso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con gli Operatori dei CPI e dei CPFP di Città metropolitana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i dispositivi per la costruzione del dossier individuale e per la compilazione del documento di trasparen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Risulta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16 documenti di trasparenza rilasciati - dato che va letto non in termini di valore assoluto , ma per il suo significato e la port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Passaggio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dalle politiche formative alle politiche dell’apprendimen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Maggiore ruolo della Regione nella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garanzia dei diritt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e nella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romozione delle opportunità di apprendimen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Insieme di opportunità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per gli attori del sistema dell’offerta formativa e dei servizi per il lavo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ecessità di un “tempo di apprendimento” per tutti gli attor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(organismi formativi, imprese, cittadini e Istituzioni), attraverso un processo progressivo e finalizzato alla costruzione di una diffusa capacità di riconoscimento dei bisogni e  di attuazione delle rispos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Conclusio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a sperimentazione ha mostra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forte rilevanza orientativa e di progetto personale della fase iniziale di identificazione e messa in trasparenza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che appare un momento fondamentale di acquisizione di consapevolezza e capacità di efficace rappresentazione degli apprendimenti da parte dei loro portato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«Progetto Pilota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ontemporaneamente alla sperimentazione del servizio di individuazione e mesa in trasparenza del servizio civile GG parte il «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rogetto pilota Formazione Valore Apprendimento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Obiettivi di sistem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Estendere e rafforzare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le pratiche di progettazione per competenze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ei percorsi formativi 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Avviare 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l sistema regionale di riconoscimento dei crediti  formativ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Formare gli operatori coinvolt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n vista della loro abilitazione all’esercizio delle funzioni di «Individuazione emessa in trasparenza delle competenze» e «pianificazione e realizzazione delle attività valutative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«Progetto Pilota»/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348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Istituisce lo standard professionale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elle unità di competenz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«Accompagnare e supportare l’individuazione emessa in trasparenza delle competenze anche al fine di riconoscere i crediti formativi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«Pianificare e realizzare le attività valutative rivolte al riconoscimento dei crediti formativi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Pianificare e realizzare le attività valutative rivolte alla validazione delle competenze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Inserisce le UC nel Repertorio regionale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elle competenze e dei profil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Istituisce l’elenco degli operatori abilitati 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all’esercizio delle funzioni di individuazione e validazione delle competenz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Istituisce l’elenco degli operatori autorizzati alla realizzazione delle attività valutative di contenuto curriculare e professional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«LEGAMI INTEGRI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a Regione sta concludendo la sperimentazione del servizio di individuazione e messa in trasparenza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per 10 rifugiati del progetto «Legami Integri»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di ROMA Capitale (a valere sul FAM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Ha individuato formalmente 2 Operatori dei CPI abilitati e iscritti nell’elenco regiona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Ha predisposto il Format per il rilascio dei documento di trasparen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«PRIMA IL LAVORO» (FAM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Obiettivo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: raggiungere 2.350 cittadini di paesi terzi regolarmente presenti in Ital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Azioni: 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orientate a migliorare la conoscenza e l’accesso ai servizi al lavoro presenti sul territorio, anche mediante la semplificazione delle informazioni/comunicazion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Interventi volti a validare le competenze non formali o informali acquisite, anche durante il percorso migratorio per 1880 cittadini di paesi terz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ntervent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volti a favorire la tracciabilità delle misure di politica del lavoro attivate a favore dei destinatari, anche attraverso il rafforzamento e/o messa in rete dei sistemi informativi/gestionali dei serviz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otenziament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di percorsi di sensibilizzazione ai temi dell’integrazione economica e del contrasto alla discriminazione sul lavor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zioni innovative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volte a favorire il coinvolgimento dei migranti in settori produttivi emergenti o legati al tessuto produttivo locale,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ec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Tirocini extracurricul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 passato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NON SI PARLAVA DI COMPETENZE,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ma veniva lasciata facoltà al soggetto promotore di individuare il format più adeguato per procedere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all’attestazione delle attività svolte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al tirocinante sulle risultanze di un questionario che il soggetto ospitante e lo stesso destinatario compilavano al termine del percorso formativo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a nuova disciplina regionale (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DGR  533/2017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) prevede espressamente che le attività indicate nel PFI costituiscano la base per procedere all’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Attestazione finale delle competenze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cquisite durante il percorso formativ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Le politiche del lavo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Le politiche attive del lavoro si articolano in una pluralità di opportunità che coprono tutto il campo dell’apprendimento attraverso prevalentemente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percorsi di formazione rivolti alla acquisizione di qualificazioni e abilitazioni (</a:t>
            </a:r>
            <a:r>
              <a:rPr b="1" i="1" lang="it-IT" sz="2000" spc="-1" strike="noStrike">
                <a:solidFill>
                  <a:srgbClr val="000000"/>
                </a:solidFill>
                <a:latin typeface="Calibri"/>
              </a:rPr>
              <a:t>formal learning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) o conclusi da attestazioni semplici (</a:t>
            </a:r>
            <a:r>
              <a:rPr b="1" i="1" lang="it-IT" sz="2000" spc="-1" strike="noStrike">
                <a:solidFill>
                  <a:srgbClr val="000000"/>
                </a:solidFill>
                <a:latin typeface="Calibri"/>
              </a:rPr>
              <a:t>non formal learning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tirocini extracurricolar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le cui recenti disposizioni rendono obbligatoria l’attestazione delle competenze in essi maturat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servizio civile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anche in questo caso rendendosi necessaria la referenziazione degli esiti in termini di competenz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azion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i accompagnamento al lavoro, mobilità ed altra progettualità individua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Prossimi pas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Approvare la direttiva accreditamento dei  soggetti titolati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Approvare la direttiva sugli standard minimi dei servizi di individuazione e messa in trasparenza, validazione e certificazione delle competenz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ttangolo 4"/>
          <p:cNvSpPr/>
          <p:nvPr/>
        </p:nvSpPr>
        <p:spPr>
          <a:xfrm>
            <a:off x="1619280" y="242100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Grazie per l’attenzione</a:t>
            </a: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4000" y="3409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L’ apprendim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254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Parlare di politiche attive porta dunque, necessariamente, a parlare sempre di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apprendimento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processo ch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richiede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partecipazione ed impegno personale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va rivolto ad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obiettivi misurabili di crescita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nduce ad un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cambiamento durevole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delle persone attraverso lo sviluppo di conoscenze , competenze , quadro di senso e abilità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38368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Dare valore agli apprendimenti: aspetto chi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Il tema fondamentale è dare valore a tutti gli apprendimenti, formali, non formali ed informal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a prospettiva dell’apprendimento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mette 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al centro la persona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, partendo non solo dai bisogni, ma anche dall’insieme delle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risorse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possedute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(spesso senza piena coscienza delle loro potenzialità) attraverso un approccio individualizzat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fa in modo che gli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esiti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dell’apprendimento siano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riconoscibili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sia dalla  persona impegnata nelle misure attive sia da tutti gli altri attori del sistema ( in primo luogo  dal mercato del lavor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Cosa abbiamo fat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rafforzato e modernizzato il sistema complessivo dei servizi dell’impiego definendo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l  sistema di accreditamento per i servizi al lavoro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ooperazione tra servizi pubblici e privati accreditat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perimentato il sistema di individuazione/validazione delle competenz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i giovani NEET che scelgono la misura “servizio civile” in Garanzia Giova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8013960" cy="71928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27080" dir="5400000" blurRad="0" rotWithShape="0">
              <a:srgbClr val="000000">
                <a:alpha val="44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1. Il sistema regionale di accreditamento dei servizi per il lavo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28560" y="1413000"/>
            <a:ext cx="7886880" cy="31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a decisione strategica è stata quella di costruire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un sistema misto pubblico/privato,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dove è ben evidente la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centralità del ruolo pubblico e la sussidiariet̀à del privato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he supporta i centri per l’impiego nell’erogazione delle prestazioni ai destinatari.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Quindi sistema cooperativo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governance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 pubblica  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operatività priv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Immagine 1" descr=""/>
          <p:cNvPicPr/>
          <p:nvPr/>
        </p:nvPicPr>
        <p:blipFill>
          <a:blip r:embed="rId1"/>
          <a:stretch/>
        </p:blipFill>
        <p:spPr>
          <a:xfrm>
            <a:off x="4284720" y="4076640"/>
            <a:ext cx="38322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2. La sperimentazione nella misura servizio civile  di G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Eleggibilità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della spesa della Misura Servizio Civile subordinata alla individuazione e validazione delle competenze (PON IOG, PAR Lazio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Valorizzare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esperienza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di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Servizio Civile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nel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percorso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di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apprendimento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effettuato dal giovane per lo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sviluppo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miglioramento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delle sue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capacità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abilità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attitudini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per facilitare l’ingresso nel mercato del lavor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La sperimentazione nella Regione Laz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Regione Lazio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: soggetto «titolare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CPI e CPFP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: soggetti «titolati di diritto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vincoli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Linee guida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pprovate con decreto direttoriale del Ministero del Lavoro DD 227/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Rilascia la validazione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elle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competenze </a:t>
            </a: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soltanto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 relazione al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Repertorio delle competenze e dei profili formativi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ella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Regione Lazio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La sperimentazione anticipa le disposizioni della D.G.R. 122/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FASI e OUT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ndividuazione e supporto alla messa in trasparenza delle competenze acquisite durante l’esperienza di Servizio Civi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output 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Documento di trasparen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Validazione delle competenze in relazione alle Unità di competenza/Profili del Repertorio della Regio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output 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Documento di validazio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13:31:39Z</dcterms:created>
  <dc:creator>Area Metodologie Strumenti</dc:creator>
  <dc:description/>
  <dc:language>en-US</dc:language>
  <cp:lastModifiedBy>Ornella Guglielmino</cp:lastModifiedBy>
  <cp:lastPrinted>2018-04-10T16:48:35Z</cp:lastPrinted>
  <dcterms:modified xsi:type="dcterms:W3CDTF">2018-11-26T13:37:18Z</dcterms:modified>
  <cp:revision>878</cp:revision>
  <dc:subject/>
  <dc:title>Diapositiva 1</dc:title>
</cp:coreProperties>
</file>